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296F3-E8E5-4E76-8B98-838B34F1D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E4CA9-2F22-4D5E-A54F-C55B0A3CB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F3B6A-59AB-46C8-96A3-2BA1E7B35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D3E9D-C777-4031-8B5F-AEDA51A17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0B5E-99D9-42BA-AEAF-7D9E6E07B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6AA12-4E65-4647-93FC-527E5B854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53CAF-DC0E-4CC8-AD12-BF31D9544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B77DA-A386-418D-96BD-FE0FE324F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1EEE7-0D08-4AF1-97FC-3F8EE7E5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0AAE9-4952-42F7-8416-AD8F2DC3C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458B-2E2C-4DBA-9C98-6E98BCD19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FC72D-F9B1-4FC0-A453-68B363ED7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d-ID"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d-ID"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A0BD0-79A0-4669-A7C6-070FD5BDF113}" type="slidenum">
              <a:rPr b="0" lang="id-ID"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4" descr=""/>
          <p:cNvPicPr/>
          <p:nvPr/>
        </p:nvPicPr>
        <p:blipFill>
          <a:blip r:embed="rId1"/>
          <a:stretch/>
        </p:blipFill>
        <p:spPr>
          <a:xfrm>
            <a:off x="533520" y="3382920"/>
            <a:ext cx="2904840" cy="6056280"/>
          </a:xfrm>
          <a:prstGeom prst="rect">
            <a:avLst/>
          </a:prstGeom>
          <a:ln w="0">
            <a:noFill/>
          </a:ln>
        </p:spPr>
      </p:pic>
      <p:pic>
        <p:nvPicPr>
          <p:cNvPr id="80" name="Picture 15" descr=""/>
          <p:cNvPicPr/>
          <p:nvPr/>
        </p:nvPicPr>
        <p:blipFill>
          <a:blip r:embed="rId2"/>
          <a:stretch/>
        </p:blipFill>
        <p:spPr>
          <a:xfrm>
            <a:off x="5353200" y="0"/>
            <a:ext cx="1504800" cy="9906120"/>
          </a:xfrm>
          <a:prstGeom prst="rect">
            <a:avLst/>
          </a:prstGeom>
          <a:ln w="0">
            <a:noFill/>
          </a:ln>
        </p:spPr>
      </p:pic>
      <p:sp>
        <p:nvSpPr>
          <p:cNvPr id="81" name="Freeform 16"/>
          <p:cNvSpPr/>
          <p:nvPr/>
        </p:nvSpPr>
        <p:spPr>
          <a:xfrm>
            <a:off x="596880" y="476280"/>
            <a:ext cx="2779560" cy="2365200"/>
          </a:xfrm>
          <a:custGeom>
            <a:avLst/>
            <a:gdLst/>
            <a:ahLst/>
            <a:rect l="l" t="t" r="r" b="b"/>
            <a:pathLst>
              <a:path w="2628571" h="2238095">
                <a:moveTo>
                  <a:pt x="0" y="0"/>
                </a:moveTo>
                <a:lnTo>
                  <a:pt x="2628571" y="0"/>
                </a:lnTo>
                <a:lnTo>
                  <a:pt x="2628571" y="2238095"/>
                </a:lnTo>
                <a:lnTo>
                  <a:pt x="0" y="2238095"/>
                </a:lnTo>
                <a:lnTo>
                  <a:pt x="0" y="0"/>
                </a:lnTo>
                <a:close/>
              </a:path>
            </a:pathLst>
          </a:custGeom>
          <a:noFill/>
          <a:ln w="38160">
            <a:solidFill>
              <a:srgbClr val="0d0d0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 name="TextBox 20"/>
          <p:cNvSpPr/>
          <p:nvPr/>
        </p:nvSpPr>
        <p:spPr>
          <a:xfrm>
            <a:off x="533520" y="3051000"/>
            <a:ext cx="29048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100" spc="-1" strike="noStrike">
                <a:solidFill>
                  <a:srgbClr val="000000"/>
                </a:solidFill>
                <a:latin typeface="Poppins"/>
                <a:ea typeface="Poppins"/>
              </a:rPr>
              <a:t>ALDRICK AUSTIN</a:t>
            </a:r>
            <a:endParaRPr b="0" lang="en-US" sz="2100" spc="-1" strike="noStrike">
              <a:solidFill>
                <a:srgbClr val="000000"/>
              </a:solidFill>
              <a:latin typeface="Calibri"/>
            </a:endParaRPr>
          </a:p>
        </p:txBody>
      </p:sp>
      <p:grpSp>
        <p:nvGrpSpPr>
          <p:cNvPr id="83" name="Group 24"/>
          <p:cNvGrpSpPr/>
          <p:nvPr/>
        </p:nvGrpSpPr>
        <p:grpSpPr>
          <a:xfrm>
            <a:off x="533520" y="3384720"/>
            <a:ext cx="2904840" cy="317160"/>
            <a:chOff x="533520" y="3384720"/>
            <a:chExt cx="2904840" cy="317160"/>
          </a:xfrm>
        </p:grpSpPr>
        <p:sp>
          <p:nvSpPr>
            <p:cNvPr id="84" name="Rectangle 23"/>
            <p:cNvSpPr/>
            <p:nvPr/>
          </p:nvSpPr>
          <p:spPr>
            <a:xfrm>
              <a:off x="533520" y="3384720"/>
              <a:ext cx="2904840" cy="29196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TextBox 21"/>
            <p:cNvSpPr/>
            <p:nvPr/>
          </p:nvSpPr>
          <p:spPr>
            <a:xfrm>
              <a:off x="1084320" y="3409920"/>
              <a:ext cx="1803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Poppins"/>
                  <a:ea typeface="Poppins"/>
                </a:rPr>
                <a:t>ABOUT MY PROFILE</a:t>
              </a:r>
              <a:endParaRPr b="0" lang="en-US" sz="1300" spc="-1" strike="noStrike">
                <a:solidFill>
                  <a:srgbClr val="000000"/>
                </a:solidFill>
                <a:latin typeface="Calibri"/>
              </a:endParaRPr>
            </a:p>
          </p:txBody>
        </p:sp>
      </p:grpSp>
      <p:grpSp>
        <p:nvGrpSpPr>
          <p:cNvPr id="86" name="Group 25"/>
          <p:cNvGrpSpPr/>
          <p:nvPr/>
        </p:nvGrpSpPr>
        <p:grpSpPr>
          <a:xfrm>
            <a:off x="533520" y="4718160"/>
            <a:ext cx="2904840" cy="317160"/>
            <a:chOff x="533520" y="4718160"/>
            <a:chExt cx="2904840" cy="317160"/>
          </a:xfrm>
        </p:grpSpPr>
        <p:sp>
          <p:nvSpPr>
            <p:cNvPr id="87" name="Rectangle 26"/>
            <p:cNvSpPr/>
            <p:nvPr/>
          </p:nvSpPr>
          <p:spPr>
            <a:xfrm>
              <a:off x="533520" y="4718160"/>
              <a:ext cx="2904840" cy="29376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TextBox 27"/>
            <p:cNvSpPr/>
            <p:nvPr/>
          </p:nvSpPr>
          <p:spPr>
            <a:xfrm>
              <a:off x="1084320" y="4743360"/>
              <a:ext cx="1803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Poppins"/>
                  <a:ea typeface="Poppins"/>
                </a:rPr>
                <a:t>INTEREST POINT</a:t>
              </a:r>
              <a:endParaRPr b="0" lang="en-US" sz="1300" spc="-1" strike="noStrike">
                <a:solidFill>
                  <a:srgbClr val="000000"/>
                </a:solidFill>
                <a:latin typeface="Calibri"/>
              </a:endParaRPr>
            </a:p>
          </p:txBody>
        </p:sp>
      </p:grpSp>
      <p:grpSp>
        <p:nvGrpSpPr>
          <p:cNvPr id="89" name="Group 28"/>
          <p:cNvGrpSpPr/>
          <p:nvPr/>
        </p:nvGrpSpPr>
        <p:grpSpPr>
          <a:xfrm>
            <a:off x="533520" y="5843520"/>
            <a:ext cx="2904840" cy="317160"/>
            <a:chOff x="533520" y="5843520"/>
            <a:chExt cx="2904840" cy="317160"/>
          </a:xfrm>
        </p:grpSpPr>
        <p:sp>
          <p:nvSpPr>
            <p:cNvPr id="90" name="Rectangle 29"/>
            <p:cNvSpPr/>
            <p:nvPr/>
          </p:nvSpPr>
          <p:spPr>
            <a:xfrm>
              <a:off x="533520" y="5843520"/>
              <a:ext cx="2904840" cy="2941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TextBox 30"/>
            <p:cNvSpPr/>
            <p:nvPr/>
          </p:nvSpPr>
          <p:spPr>
            <a:xfrm>
              <a:off x="933480" y="5868720"/>
              <a:ext cx="21045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Poppins"/>
                  <a:ea typeface="Poppins"/>
                </a:rPr>
                <a:t>PROFESSIONAL SKILLS</a:t>
              </a:r>
              <a:endParaRPr b="0" lang="en-US" sz="1300" spc="-1" strike="noStrike">
                <a:solidFill>
                  <a:srgbClr val="000000"/>
                </a:solidFill>
                <a:latin typeface="Calibri"/>
              </a:endParaRPr>
            </a:p>
          </p:txBody>
        </p:sp>
      </p:grpSp>
      <p:grpSp>
        <p:nvGrpSpPr>
          <p:cNvPr id="92" name="Group 34"/>
          <p:cNvGrpSpPr/>
          <p:nvPr/>
        </p:nvGrpSpPr>
        <p:grpSpPr>
          <a:xfrm>
            <a:off x="533520" y="8253360"/>
            <a:ext cx="2904840" cy="317160"/>
            <a:chOff x="533520" y="8253360"/>
            <a:chExt cx="2904840" cy="317160"/>
          </a:xfrm>
        </p:grpSpPr>
        <p:sp>
          <p:nvSpPr>
            <p:cNvPr id="93" name="Rectangle 35"/>
            <p:cNvSpPr/>
            <p:nvPr/>
          </p:nvSpPr>
          <p:spPr>
            <a:xfrm>
              <a:off x="533520" y="8253360"/>
              <a:ext cx="2904840" cy="2941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TextBox 36"/>
            <p:cNvSpPr/>
            <p:nvPr/>
          </p:nvSpPr>
          <p:spPr>
            <a:xfrm>
              <a:off x="1084320" y="8278560"/>
              <a:ext cx="1803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Poppins"/>
                  <a:ea typeface="Poppins"/>
                </a:rPr>
                <a:t>CONTACT ME</a:t>
              </a:r>
              <a:endParaRPr b="0" lang="en-US" sz="1300" spc="-1" strike="noStrike">
                <a:solidFill>
                  <a:srgbClr val="000000"/>
                </a:solidFill>
                <a:latin typeface="Calibri"/>
              </a:endParaRPr>
            </a:p>
          </p:txBody>
        </p:sp>
      </p:grpSp>
      <p:sp>
        <p:nvSpPr>
          <p:cNvPr id="95" name="Rectangle 37"/>
          <p:cNvSpPr/>
          <p:nvPr/>
        </p:nvSpPr>
        <p:spPr>
          <a:xfrm>
            <a:off x="671400" y="3724200"/>
            <a:ext cx="2627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Sed Ut Perspiciatis Unde Omnis Iste Natus Error Sit Voluptatem Accusol Orem Unde Omnis Iste Unde Omnis Iste Natus Error Sit Voluptatem Accusol Orem Unde Omnis Iste Unde Omnis Iste Natus Error Sit Voluptate Accusol Orem Accusol</a:t>
            </a:r>
            <a:endParaRPr b="0" lang="en-US" sz="900" spc="-1" strike="noStrike">
              <a:solidFill>
                <a:srgbClr val="000000"/>
              </a:solidFill>
              <a:latin typeface="Calibri"/>
            </a:endParaRPr>
          </a:p>
        </p:txBody>
      </p:sp>
      <p:grpSp>
        <p:nvGrpSpPr>
          <p:cNvPr id="96" name="Group 40"/>
          <p:cNvGrpSpPr/>
          <p:nvPr/>
        </p:nvGrpSpPr>
        <p:grpSpPr>
          <a:xfrm>
            <a:off x="760320" y="5041800"/>
            <a:ext cx="1314720" cy="231120"/>
            <a:chOff x="760320" y="5041800"/>
            <a:chExt cx="1314720" cy="231120"/>
          </a:xfrm>
        </p:grpSpPr>
        <p:sp>
          <p:nvSpPr>
            <p:cNvPr id="97" name="Rectangle 38"/>
            <p:cNvSpPr/>
            <p:nvPr/>
          </p:nvSpPr>
          <p:spPr>
            <a:xfrm>
              <a:off x="867960" y="50418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 ttio </a:t>
              </a:r>
              <a:endParaRPr b="0" lang="en-US" sz="900" spc="-1" strike="noStrike">
                <a:solidFill>
                  <a:srgbClr val="000000"/>
                </a:solidFill>
                <a:latin typeface="Calibri"/>
              </a:endParaRPr>
            </a:p>
          </p:txBody>
        </p:sp>
        <p:sp>
          <p:nvSpPr>
            <p:cNvPr id="98" name="Donut 39"/>
            <p:cNvSpPr/>
            <p:nvPr/>
          </p:nvSpPr>
          <p:spPr>
            <a:xfrm>
              <a:off x="760320" y="5105880"/>
              <a:ext cx="88920" cy="8928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grpSp>
      <p:grpSp>
        <p:nvGrpSpPr>
          <p:cNvPr id="99" name="Group 41"/>
          <p:cNvGrpSpPr/>
          <p:nvPr/>
        </p:nvGrpSpPr>
        <p:grpSpPr>
          <a:xfrm>
            <a:off x="760320" y="5245200"/>
            <a:ext cx="1314720" cy="231120"/>
            <a:chOff x="760320" y="5245200"/>
            <a:chExt cx="1314720" cy="231120"/>
          </a:xfrm>
        </p:grpSpPr>
        <p:sp>
          <p:nvSpPr>
            <p:cNvPr id="100" name="Rectangle 42"/>
            <p:cNvSpPr/>
            <p:nvPr/>
          </p:nvSpPr>
          <p:spPr>
            <a:xfrm>
              <a:off x="867960" y="52452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a:t>
              </a:r>
              <a:endParaRPr b="0" lang="en-US" sz="900" spc="-1" strike="noStrike">
                <a:solidFill>
                  <a:srgbClr val="000000"/>
                </a:solidFill>
                <a:latin typeface="Calibri"/>
              </a:endParaRPr>
            </a:p>
          </p:txBody>
        </p:sp>
        <p:sp>
          <p:nvSpPr>
            <p:cNvPr id="101" name="Donut 43"/>
            <p:cNvSpPr/>
            <p:nvPr/>
          </p:nvSpPr>
          <p:spPr>
            <a:xfrm>
              <a:off x="760320" y="5309280"/>
              <a:ext cx="88920" cy="8928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grpSp>
      <p:grpSp>
        <p:nvGrpSpPr>
          <p:cNvPr id="102" name="Group 44"/>
          <p:cNvGrpSpPr/>
          <p:nvPr/>
        </p:nvGrpSpPr>
        <p:grpSpPr>
          <a:xfrm>
            <a:off x="760320" y="5475240"/>
            <a:ext cx="1314720" cy="231120"/>
            <a:chOff x="760320" y="5475240"/>
            <a:chExt cx="1314720" cy="231120"/>
          </a:xfrm>
        </p:grpSpPr>
        <p:sp>
          <p:nvSpPr>
            <p:cNvPr id="103" name="Rectangle 45"/>
            <p:cNvSpPr/>
            <p:nvPr/>
          </p:nvSpPr>
          <p:spPr>
            <a:xfrm>
              <a:off x="867960" y="547524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sp>
          <p:nvSpPr>
            <p:cNvPr id="104" name="Donut 46"/>
            <p:cNvSpPr/>
            <p:nvPr/>
          </p:nvSpPr>
          <p:spPr>
            <a:xfrm>
              <a:off x="760320" y="5539320"/>
              <a:ext cx="88920" cy="8928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grpSp>
      <p:grpSp>
        <p:nvGrpSpPr>
          <p:cNvPr id="105" name="Group 47"/>
          <p:cNvGrpSpPr/>
          <p:nvPr/>
        </p:nvGrpSpPr>
        <p:grpSpPr>
          <a:xfrm>
            <a:off x="2081160" y="5052960"/>
            <a:ext cx="1314360" cy="231120"/>
            <a:chOff x="2081160" y="5052960"/>
            <a:chExt cx="1314360" cy="231120"/>
          </a:xfrm>
        </p:grpSpPr>
        <p:sp>
          <p:nvSpPr>
            <p:cNvPr id="106" name="Rectangle 48"/>
            <p:cNvSpPr/>
            <p:nvPr/>
          </p:nvSpPr>
          <p:spPr>
            <a:xfrm>
              <a:off x="2188800" y="5052960"/>
              <a:ext cx="1206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 ttio </a:t>
              </a:r>
              <a:endParaRPr b="0" lang="en-US" sz="900" spc="-1" strike="noStrike">
                <a:solidFill>
                  <a:srgbClr val="000000"/>
                </a:solidFill>
                <a:latin typeface="Calibri"/>
              </a:endParaRPr>
            </a:p>
          </p:txBody>
        </p:sp>
        <p:sp>
          <p:nvSpPr>
            <p:cNvPr id="107" name="Donut 49"/>
            <p:cNvSpPr/>
            <p:nvPr/>
          </p:nvSpPr>
          <p:spPr>
            <a:xfrm>
              <a:off x="2081160" y="5116680"/>
              <a:ext cx="88560" cy="8856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Calibri"/>
              </a:endParaRPr>
            </a:p>
          </p:txBody>
        </p:sp>
      </p:grpSp>
      <p:grpSp>
        <p:nvGrpSpPr>
          <p:cNvPr id="108" name="Group 50"/>
          <p:cNvGrpSpPr/>
          <p:nvPr/>
        </p:nvGrpSpPr>
        <p:grpSpPr>
          <a:xfrm>
            <a:off x="2081160" y="5256360"/>
            <a:ext cx="1314360" cy="231120"/>
            <a:chOff x="2081160" y="5256360"/>
            <a:chExt cx="1314360" cy="231120"/>
          </a:xfrm>
        </p:grpSpPr>
        <p:sp>
          <p:nvSpPr>
            <p:cNvPr id="109" name="Rectangle 51"/>
            <p:cNvSpPr/>
            <p:nvPr/>
          </p:nvSpPr>
          <p:spPr>
            <a:xfrm>
              <a:off x="2188800" y="5256360"/>
              <a:ext cx="1206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a:t>
              </a:r>
              <a:endParaRPr b="0" lang="en-US" sz="900" spc="-1" strike="noStrike">
                <a:solidFill>
                  <a:srgbClr val="000000"/>
                </a:solidFill>
                <a:latin typeface="Calibri"/>
              </a:endParaRPr>
            </a:p>
          </p:txBody>
        </p:sp>
        <p:sp>
          <p:nvSpPr>
            <p:cNvPr id="110" name="Donut 52"/>
            <p:cNvSpPr/>
            <p:nvPr/>
          </p:nvSpPr>
          <p:spPr>
            <a:xfrm>
              <a:off x="2081160" y="5319720"/>
              <a:ext cx="88560" cy="8856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Calibri"/>
              </a:endParaRPr>
            </a:p>
          </p:txBody>
        </p:sp>
      </p:grpSp>
      <p:grpSp>
        <p:nvGrpSpPr>
          <p:cNvPr id="111" name="Group 53"/>
          <p:cNvGrpSpPr/>
          <p:nvPr/>
        </p:nvGrpSpPr>
        <p:grpSpPr>
          <a:xfrm>
            <a:off x="2081160" y="5486400"/>
            <a:ext cx="1314360" cy="231120"/>
            <a:chOff x="2081160" y="5486400"/>
            <a:chExt cx="1314360" cy="231120"/>
          </a:xfrm>
        </p:grpSpPr>
        <p:sp>
          <p:nvSpPr>
            <p:cNvPr id="112" name="Rectangle 54"/>
            <p:cNvSpPr/>
            <p:nvPr/>
          </p:nvSpPr>
          <p:spPr>
            <a:xfrm>
              <a:off x="2188800" y="5486400"/>
              <a:ext cx="1206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sp>
          <p:nvSpPr>
            <p:cNvPr id="113" name="Donut 55"/>
            <p:cNvSpPr/>
            <p:nvPr/>
          </p:nvSpPr>
          <p:spPr>
            <a:xfrm>
              <a:off x="2081160" y="5549760"/>
              <a:ext cx="88560" cy="8856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Calibri"/>
              </a:endParaRPr>
            </a:p>
          </p:txBody>
        </p:sp>
      </p:grpSp>
      <p:grpSp>
        <p:nvGrpSpPr>
          <p:cNvPr id="114" name="Group 61"/>
          <p:cNvGrpSpPr/>
          <p:nvPr/>
        </p:nvGrpSpPr>
        <p:grpSpPr>
          <a:xfrm>
            <a:off x="671400" y="6265800"/>
            <a:ext cx="2524320" cy="258840"/>
            <a:chOff x="671400" y="6265800"/>
            <a:chExt cx="2524320" cy="258840"/>
          </a:xfrm>
        </p:grpSpPr>
        <p:sp>
          <p:nvSpPr>
            <p:cNvPr id="115" name="Rectangle 57"/>
            <p:cNvSpPr/>
            <p:nvPr/>
          </p:nvSpPr>
          <p:spPr>
            <a:xfrm>
              <a:off x="671400" y="62658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0d0d0d"/>
                  </a:solidFill>
                  <a:latin typeface="Poppins"/>
                  <a:ea typeface="Poppins"/>
                </a:rPr>
                <a:t>Acounting</a:t>
              </a:r>
              <a:endParaRPr b="0" lang="en-US" sz="900" spc="-1" strike="noStrike">
                <a:solidFill>
                  <a:srgbClr val="000000"/>
                </a:solidFill>
                <a:latin typeface="Calibri"/>
              </a:endParaRPr>
            </a:p>
          </p:txBody>
        </p:sp>
        <p:grpSp>
          <p:nvGrpSpPr>
            <p:cNvPr id="116" name="Group 60"/>
            <p:cNvGrpSpPr/>
            <p:nvPr/>
          </p:nvGrpSpPr>
          <p:grpSpPr>
            <a:xfrm>
              <a:off x="759600" y="6478200"/>
              <a:ext cx="2436120" cy="46440"/>
              <a:chOff x="759600" y="6478200"/>
              <a:chExt cx="2436120" cy="46440"/>
            </a:xfrm>
          </p:grpSpPr>
          <p:sp>
            <p:nvSpPr>
              <p:cNvPr id="117" name="Rounded Rectangle 59"/>
              <p:cNvSpPr/>
              <p:nvPr/>
            </p:nvSpPr>
            <p:spPr>
              <a:xfrm>
                <a:off x="785520" y="6478200"/>
                <a:ext cx="2410200" cy="45720"/>
              </a:xfrm>
              <a:prstGeom prst="roundRect">
                <a:avLst>
                  <a:gd name="adj" fmla="val 50000"/>
                </a:avLst>
              </a:pr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Rounded Rectangle 58"/>
              <p:cNvSpPr/>
              <p:nvPr/>
            </p:nvSpPr>
            <p:spPr>
              <a:xfrm>
                <a:off x="759600" y="6478920"/>
                <a:ext cx="1510200" cy="45720"/>
              </a:xfrm>
              <a:prstGeom prst="roundRect">
                <a:avLst>
                  <a:gd name="adj" fmla="val 50000"/>
                </a:avLst>
              </a:prstGeom>
              <a:solidFill>
                <a:srgbClr val="0d0d0d"/>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nvGrpSpPr>
          <p:cNvPr id="119" name="Group 62"/>
          <p:cNvGrpSpPr/>
          <p:nvPr/>
        </p:nvGrpSpPr>
        <p:grpSpPr>
          <a:xfrm>
            <a:off x="671400" y="6629400"/>
            <a:ext cx="2524320" cy="258840"/>
            <a:chOff x="671400" y="6629400"/>
            <a:chExt cx="2524320" cy="258840"/>
          </a:xfrm>
        </p:grpSpPr>
        <p:sp>
          <p:nvSpPr>
            <p:cNvPr id="120" name="Rectangle 63"/>
            <p:cNvSpPr/>
            <p:nvPr/>
          </p:nvSpPr>
          <p:spPr>
            <a:xfrm>
              <a:off x="671400" y="66294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grpSp>
          <p:nvGrpSpPr>
            <p:cNvPr id="121" name="Group 64"/>
            <p:cNvGrpSpPr/>
            <p:nvPr/>
          </p:nvGrpSpPr>
          <p:grpSpPr>
            <a:xfrm>
              <a:off x="759600" y="6841800"/>
              <a:ext cx="2436120" cy="46440"/>
              <a:chOff x="759600" y="6841800"/>
              <a:chExt cx="2436120" cy="46440"/>
            </a:xfrm>
          </p:grpSpPr>
          <p:sp>
            <p:nvSpPr>
              <p:cNvPr id="122" name="Rounded Rectangle 65"/>
              <p:cNvSpPr/>
              <p:nvPr/>
            </p:nvSpPr>
            <p:spPr>
              <a:xfrm>
                <a:off x="785520" y="6841800"/>
                <a:ext cx="2410200" cy="45720"/>
              </a:xfrm>
              <a:prstGeom prst="roundRect">
                <a:avLst>
                  <a:gd name="adj" fmla="val 50000"/>
                </a:avLst>
              </a:pr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ounded Rectangle 66"/>
              <p:cNvSpPr/>
              <p:nvPr/>
            </p:nvSpPr>
            <p:spPr>
              <a:xfrm>
                <a:off x="759600" y="6842520"/>
                <a:ext cx="1958040" cy="45720"/>
              </a:xfrm>
              <a:prstGeom prst="roundRect">
                <a:avLst>
                  <a:gd name="adj" fmla="val 50000"/>
                </a:avLst>
              </a:prstGeom>
              <a:solidFill>
                <a:srgbClr val="0d0d0d"/>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nvGrpSpPr>
          <p:cNvPr id="124" name="Group 67"/>
          <p:cNvGrpSpPr/>
          <p:nvPr/>
        </p:nvGrpSpPr>
        <p:grpSpPr>
          <a:xfrm>
            <a:off x="671400" y="6991200"/>
            <a:ext cx="2524320" cy="258840"/>
            <a:chOff x="671400" y="6991200"/>
            <a:chExt cx="2524320" cy="258840"/>
          </a:xfrm>
        </p:grpSpPr>
        <p:sp>
          <p:nvSpPr>
            <p:cNvPr id="125" name="Rectangle 68"/>
            <p:cNvSpPr/>
            <p:nvPr/>
          </p:nvSpPr>
          <p:spPr>
            <a:xfrm>
              <a:off x="671400" y="69912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grpSp>
          <p:nvGrpSpPr>
            <p:cNvPr id="126" name="Group 69"/>
            <p:cNvGrpSpPr/>
            <p:nvPr/>
          </p:nvGrpSpPr>
          <p:grpSpPr>
            <a:xfrm>
              <a:off x="759600" y="7203600"/>
              <a:ext cx="2436120" cy="46440"/>
              <a:chOff x="759600" y="7203600"/>
              <a:chExt cx="2436120" cy="46440"/>
            </a:xfrm>
          </p:grpSpPr>
          <p:sp>
            <p:nvSpPr>
              <p:cNvPr id="127" name="Rounded Rectangle 70"/>
              <p:cNvSpPr/>
              <p:nvPr/>
            </p:nvSpPr>
            <p:spPr>
              <a:xfrm>
                <a:off x="785520" y="7203600"/>
                <a:ext cx="2410200" cy="45720"/>
              </a:xfrm>
              <a:prstGeom prst="roundRect">
                <a:avLst>
                  <a:gd name="adj" fmla="val 50000"/>
                </a:avLst>
              </a:pr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Rounded Rectangle 71"/>
              <p:cNvSpPr/>
              <p:nvPr/>
            </p:nvSpPr>
            <p:spPr>
              <a:xfrm>
                <a:off x="759600" y="7204320"/>
                <a:ext cx="1510200" cy="45720"/>
              </a:xfrm>
              <a:prstGeom prst="roundRect">
                <a:avLst>
                  <a:gd name="adj" fmla="val 50000"/>
                </a:avLst>
              </a:prstGeom>
              <a:solidFill>
                <a:srgbClr val="0d0d0d"/>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nvGrpSpPr>
          <p:cNvPr id="129" name="Group 72"/>
          <p:cNvGrpSpPr/>
          <p:nvPr/>
        </p:nvGrpSpPr>
        <p:grpSpPr>
          <a:xfrm>
            <a:off x="671400" y="7378560"/>
            <a:ext cx="2524320" cy="258840"/>
            <a:chOff x="671400" y="7378560"/>
            <a:chExt cx="2524320" cy="258840"/>
          </a:xfrm>
        </p:grpSpPr>
        <p:sp>
          <p:nvSpPr>
            <p:cNvPr id="130" name="Rectangle 73"/>
            <p:cNvSpPr/>
            <p:nvPr/>
          </p:nvSpPr>
          <p:spPr>
            <a:xfrm>
              <a:off x="671400" y="737856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grpSp>
          <p:nvGrpSpPr>
            <p:cNvPr id="131" name="Group 74"/>
            <p:cNvGrpSpPr/>
            <p:nvPr/>
          </p:nvGrpSpPr>
          <p:grpSpPr>
            <a:xfrm>
              <a:off x="759600" y="7590960"/>
              <a:ext cx="2436120" cy="46440"/>
              <a:chOff x="759600" y="7590960"/>
              <a:chExt cx="2436120" cy="46440"/>
            </a:xfrm>
          </p:grpSpPr>
          <p:sp>
            <p:nvSpPr>
              <p:cNvPr id="132" name="Rounded Rectangle 75"/>
              <p:cNvSpPr/>
              <p:nvPr/>
            </p:nvSpPr>
            <p:spPr>
              <a:xfrm>
                <a:off x="785520" y="7590960"/>
                <a:ext cx="2410200" cy="45720"/>
              </a:xfrm>
              <a:prstGeom prst="roundRect">
                <a:avLst>
                  <a:gd name="adj" fmla="val 50000"/>
                </a:avLst>
              </a:pr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Rounded Rectangle 76"/>
              <p:cNvSpPr/>
              <p:nvPr/>
            </p:nvSpPr>
            <p:spPr>
              <a:xfrm>
                <a:off x="759600" y="7591680"/>
                <a:ext cx="1008360" cy="45720"/>
              </a:xfrm>
              <a:prstGeom prst="roundRect">
                <a:avLst>
                  <a:gd name="adj" fmla="val 50000"/>
                </a:avLst>
              </a:prstGeom>
              <a:solidFill>
                <a:srgbClr val="0d0d0d"/>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nvGrpSpPr>
          <p:cNvPr id="134" name="Group 77"/>
          <p:cNvGrpSpPr/>
          <p:nvPr/>
        </p:nvGrpSpPr>
        <p:grpSpPr>
          <a:xfrm>
            <a:off x="671400" y="7736040"/>
            <a:ext cx="2524320" cy="260280"/>
            <a:chOff x="671400" y="7736040"/>
            <a:chExt cx="2524320" cy="260280"/>
          </a:xfrm>
        </p:grpSpPr>
        <p:sp>
          <p:nvSpPr>
            <p:cNvPr id="135" name="Rectangle 78"/>
            <p:cNvSpPr/>
            <p:nvPr/>
          </p:nvSpPr>
          <p:spPr>
            <a:xfrm>
              <a:off x="671400" y="773604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grpSp>
          <p:nvGrpSpPr>
            <p:cNvPr id="136" name="Group 79"/>
            <p:cNvGrpSpPr/>
            <p:nvPr/>
          </p:nvGrpSpPr>
          <p:grpSpPr>
            <a:xfrm>
              <a:off x="759600" y="7949520"/>
              <a:ext cx="2436120" cy="46800"/>
              <a:chOff x="759600" y="7949520"/>
              <a:chExt cx="2436120" cy="46800"/>
            </a:xfrm>
          </p:grpSpPr>
          <p:sp>
            <p:nvSpPr>
              <p:cNvPr id="137" name="Rounded Rectangle 80"/>
              <p:cNvSpPr/>
              <p:nvPr/>
            </p:nvSpPr>
            <p:spPr>
              <a:xfrm>
                <a:off x="785520" y="7949520"/>
                <a:ext cx="2410200" cy="46080"/>
              </a:xfrm>
              <a:prstGeom prst="roundRect">
                <a:avLst>
                  <a:gd name="adj" fmla="val 50000"/>
                </a:avLst>
              </a:prstGeom>
              <a:solidFill>
                <a:srgbClr val="ffffff"/>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Rounded Rectangle 81"/>
              <p:cNvSpPr/>
              <p:nvPr/>
            </p:nvSpPr>
            <p:spPr>
              <a:xfrm>
                <a:off x="759600" y="7950240"/>
                <a:ext cx="1770840" cy="46080"/>
              </a:xfrm>
              <a:prstGeom prst="roundRect">
                <a:avLst>
                  <a:gd name="adj" fmla="val 50000"/>
                </a:avLst>
              </a:prstGeom>
              <a:solidFill>
                <a:srgbClr val="0d0d0d"/>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39" name="Rectangle 83"/>
          <p:cNvSpPr/>
          <p:nvPr/>
        </p:nvSpPr>
        <p:spPr>
          <a:xfrm>
            <a:off x="849240" y="8672400"/>
            <a:ext cx="87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0827465758</a:t>
            </a:r>
            <a:endParaRPr b="0" lang="en-US" sz="900" spc="-1" strike="noStrike">
              <a:solidFill>
                <a:srgbClr val="000000"/>
              </a:solidFill>
              <a:latin typeface="Calibri"/>
            </a:endParaRPr>
          </a:p>
        </p:txBody>
      </p:sp>
      <p:sp>
        <p:nvSpPr>
          <p:cNvPr id="140" name="Rectangle 84"/>
          <p:cNvSpPr/>
          <p:nvPr/>
        </p:nvSpPr>
        <p:spPr>
          <a:xfrm>
            <a:off x="868320" y="9004320"/>
            <a:ext cx="95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Aldrrckauss_ </a:t>
            </a:r>
            <a:endParaRPr b="0" lang="en-US" sz="900" spc="-1" strike="noStrike">
              <a:solidFill>
                <a:srgbClr val="000000"/>
              </a:solidFill>
              <a:latin typeface="Calibri"/>
            </a:endParaRPr>
          </a:p>
        </p:txBody>
      </p:sp>
      <p:sp>
        <p:nvSpPr>
          <p:cNvPr id="141" name="Rectangle 85"/>
          <p:cNvSpPr/>
          <p:nvPr/>
        </p:nvSpPr>
        <p:spPr>
          <a:xfrm>
            <a:off x="2001960" y="8658360"/>
            <a:ext cx="1392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Aldric_kaustinjefrey </a:t>
            </a:r>
            <a:endParaRPr b="0" lang="en-US" sz="900" spc="-1" strike="noStrike">
              <a:solidFill>
                <a:srgbClr val="000000"/>
              </a:solidFill>
              <a:latin typeface="Calibri"/>
            </a:endParaRPr>
          </a:p>
        </p:txBody>
      </p:sp>
      <p:sp>
        <p:nvSpPr>
          <p:cNvPr id="142" name="Rectangle 86"/>
          <p:cNvSpPr/>
          <p:nvPr/>
        </p:nvSpPr>
        <p:spPr>
          <a:xfrm>
            <a:off x="2036880" y="9005760"/>
            <a:ext cx="1322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Aldrick.austnjefrey </a:t>
            </a:r>
            <a:endParaRPr b="0" lang="en-US" sz="900" spc="-1" strike="noStrike">
              <a:solidFill>
                <a:srgbClr val="000000"/>
              </a:solidFill>
              <a:latin typeface="Calibri"/>
            </a:endParaRPr>
          </a:p>
        </p:txBody>
      </p:sp>
      <p:sp>
        <p:nvSpPr>
          <p:cNvPr id="143" name="Straight Connector 88"/>
          <p:cNvSpPr/>
          <p:nvPr/>
        </p:nvSpPr>
        <p:spPr>
          <a:xfrm>
            <a:off x="3700440" y="476280"/>
            <a:ext cx="0" cy="896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4" name="Group 105"/>
          <p:cNvGrpSpPr/>
          <p:nvPr/>
        </p:nvGrpSpPr>
        <p:grpSpPr>
          <a:xfrm>
            <a:off x="3633840" y="414360"/>
            <a:ext cx="1585800" cy="337320"/>
            <a:chOff x="3633840" y="414360"/>
            <a:chExt cx="1585800" cy="337320"/>
          </a:xfrm>
        </p:grpSpPr>
        <p:sp>
          <p:nvSpPr>
            <p:cNvPr id="145" name="Oval 89"/>
            <p:cNvSpPr/>
            <p:nvPr/>
          </p:nvSpPr>
          <p:spPr>
            <a:xfrm>
              <a:off x="3633840" y="473760"/>
              <a:ext cx="132840" cy="1328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90"/>
            <p:cNvSpPr/>
            <p:nvPr/>
          </p:nvSpPr>
          <p:spPr>
            <a:xfrm>
              <a:off x="3767040" y="414360"/>
              <a:ext cx="145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600" spc="-1" strike="noStrike">
                  <a:solidFill>
                    <a:srgbClr val="000000"/>
                  </a:solidFill>
                  <a:latin typeface="Poppins"/>
                  <a:ea typeface="Poppins"/>
                </a:rPr>
                <a:t>EDUCATION</a:t>
              </a:r>
              <a:endParaRPr b="0" lang="en-US" sz="1600" spc="-1" strike="noStrike">
                <a:solidFill>
                  <a:srgbClr val="000000"/>
                </a:solidFill>
                <a:latin typeface="Calibri"/>
              </a:endParaRPr>
            </a:p>
          </p:txBody>
        </p:sp>
      </p:grpSp>
      <p:grpSp>
        <p:nvGrpSpPr>
          <p:cNvPr id="147" name="Group 95"/>
          <p:cNvGrpSpPr/>
          <p:nvPr/>
        </p:nvGrpSpPr>
        <p:grpSpPr>
          <a:xfrm>
            <a:off x="3767040" y="803160"/>
            <a:ext cx="3000600" cy="368280"/>
            <a:chOff x="3767040" y="803160"/>
            <a:chExt cx="3000600" cy="368280"/>
          </a:xfrm>
        </p:grpSpPr>
        <p:sp>
          <p:nvSpPr>
            <p:cNvPr id="148" name="Rectangle 93"/>
            <p:cNvSpPr/>
            <p:nvPr/>
          </p:nvSpPr>
          <p:spPr>
            <a:xfrm>
              <a:off x="3767040" y="872280"/>
              <a:ext cx="9068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 </a:t>
              </a:r>
              <a:r>
                <a:rPr b="0" lang="en-US" sz="900" spc="-1" strike="noStrike">
                  <a:solidFill>
                    <a:srgbClr val="0d0d0d"/>
                  </a:solidFill>
                  <a:latin typeface="Poppins"/>
                  <a:ea typeface="Poppins"/>
                </a:rPr>
                <a:t>1995 - 1999 </a:t>
              </a:r>
              <a:endParaRPr b="0" lang="en-US" sz="900" spc="-1" strike="noStrike">
                <a:solidFill>
                  <a:srgbClr val="000000"/>
                </a:solidFill>
                <a:latin typeface="Calibri"/>
              </a:endParaRPr>
            </a:p>
          </p:txBody>
        </p:sp>
        <p:sp>
          <p:nvSpPr>
            <p:cNvPr id="149" name="Rectangle 94"/>
            <p:cNvSpPr/>
            <p:nvPr/>
          </p:nvSpPr>
          <p:spPr>
            <a:xfrm>
              <a:off x="4673880" y="803160"/>
              <a:ext cx="2093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DEGREE NAME  </a:t>
              </a:r>
              <a:endParaRPr b="0" lang="en-US" sz="9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consectetuer adipiscing elit, sed </a:t>
              </a:r>
              <a:endParaRPr b="0" lang="en-US" sz="900" spc="-1" strike="noStrike">
                <a:solidFill>
                  <a:srgbClr val="000000"/>
                </a:solidFill>
                <a:latin typeface="Calibri"/>
              </a:endParaRPr>
            </a:p>
          </p:txBody>
        </p:sp>
      </p:grpSp>
      <p:grpSp>
        <p:nvGrpSpPr>
          <p:cNvPr id="150" name="Group 96"/>
          <p:cNvGrpSpPr/>
          <p:nvPr/>
        </p:nvGrpSpPr>
        <p:grpSpPr>
          <a:xfrm>
            <a:off x="3767040" y="1241280"/>
            <a:ext cx="3000600" cy="368280"/>
            <a:chOff x="3767040" y="1241280"/>
            <a:chExt cx="3000600" cy="368280"/>
          </a:xfrm>
        </p:grpSpPr>
        <p:sp>
          <p:nvSpPr>
            <p:cNvPr id="151" name="Rectangle 97"/>
            <p:cNvSpPr/>
            <p:nvPr/>
          </p:nvSpPr>
          <p:spPr>
            <a:xfrm>
              <a:off x="3767040" y="1310400"/>
              <a:ext cx="9068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 </a:t>
              </a:r>
              <a:r>
                <a:rPr b="0" lang="en-US" sz="900" spc="-1" strike="noStrike">
                  <a:solidFill>
                    <a:srgbClr val="0d0d0d"/>
                  </a:solidFill>
                  <a:latin typeface="Poppins"/>
                  <a:ea typeface="Poppins"/>
                </a:rPr>
                <a:t>199</a:t>
              </a:r>
              <a:r>
                <a:rPr b="0" lang="id-ID" sz="900" spc="-1" strike="noStrike">
                  <a:solidFill>
                    <a:srgbClr val="0d0d0d"/>
                  </a:solidFill>
                  <a:latin typeface="Poppins"/>
                  <a:ea typeface="Poppins"/>
                </a:rPr>
                <a:t>0</a:t>
              </a:r>
              <a:r>
                <a:rPr b="0" lang="en-US" sz="900" spc="-1" strike="noStrike">
                  <a:solidFill>
                    <a:srgbClr val="0d0d0d"/>
                  </a:solidFill>
                  <a:latin typeface="Poppins"/>
                  <a:ea typeface="Poppins"/>
                </a:rPr>
                <a:t> - </a:t>
              </a:r>
              <a:r>
                <a:rPr b="0" lang="id-ID" sz="900" spc="-1" strike="noStrike">
                  <a:solidFill>
                    <a:srgbClr val="0d0d0d"/>
                  </a:solidFill>
                  <a:latin typeface="Poppins"/>
                  <a:ea typeface="Poppins"/>
                </a:rPr>
                <a:t>2000</a:t>
              </a:r>
              <a:r>
                <a:rPr b="0" lang="en-US" sz="900" spc="-1" strike="noStrike">
                  <a:solidFill>
                    <a:srgbClr val="0d0d0d"/>
                  </a:solidFill>
                  <a:latin typeface="Poppins"/>
                  <a:ea typeface="Poppins"/>
                </a:rPr>
                <a:t> </a:t>
              </a:r>
              <a:endParaRPr b="0" lang="en-US" sz="900" spc="-1" strike="noStrike">
                <a:solidFill>
                  <a:srgbClr val="000000"/>
                </a:solidFill>
                <a:latin typeface="Calibri"/>
              </a:endParaRPr>
            </a:p>
          </p:txBody>
        </p:sp>
        <p:sp>
          <p:nvSpPr>
            <p:cNvPr id="152" name="Rectangle 98"/>
            <p:cNvSpPr/>
            <p:nvPr/>
          </p:nvSpPr>
          <p:spPr>
            <a:xfrm>
              <a:off x="4673880" y="1241280"/>
              <a:ext cx="2093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DEGREE NAME  </a:t>
              </a:r>
              <a:endParaRPr b="0" lang="en-US" sz="9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consectetuer adipiscing elit, sed </a:t>
              </a:r>
              <a:endParaRPr b="0" lang="en-US" sz="900" spc="-1" strike="noStrike">
                <a:solidFill>
                  <a:srgbClr val="000000"/>
                </a:solidFill>
                <a:latin typeface="Calibri"/>
              </a:endParaRPr>
            </a:p>
          </p:txBody>
        </p:sp>
      </p:grpSp>
      <p:grpSp>
        <p:nvGrpSpPr>
          <p:cNvPr id="153" name="Group 99"/>
          <p:cNvGrpSpPr/>
          <p:nvPr/>
        </p:nvGrpSpPr>
        <p:grpSpPr>
          <a:xfrm>
            <a:off x="3767040" y="1681200"/>
            <a:ext cx="3000600" cy="368280"/>
            <a:chOff x="3767040" y="1681200"/>
            <a:chExt cx="3000600" cy="368280"/>
          </a:xfrm>
        </p:grpSpPr>
        <p:sp>
          <p:nvSpPr>
            <p:cNvPr id="154" name="Rectangle 100"/>
            <p:cNvSpPr/>
            <p:nvPr/>
          </p:nvSpPr>
          <p:spPr>
            <a:xfrm>
              <a:off x="3767040" y="1750320"/>
              <a:ext cx="9068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 </a:t>
              </a:r>
              <a:r>
                <a:rPr b="0" lang="id-ID" sz="900" spc="-1" strike="noStrike">
                  <a:solidFill>
                    <a:srgbClr val="0d0d0d"/>
                  </a:solidFill>
                  <a:latin typeface="Poppins"/>
                  <a:ea typeface="Poppins"/>
                </a:rPr>
                <a:t>2000</a:t>
              </a:r>
              <a:r>
                <a:rPr b="0" lang="en-US" sz="900" spc="-1" strike="noStrike">
                  <a:solidFill>
                    <a:srgbClr val="0d0d0d"/>
                  </a:solidFill>
                  <a:latin typeface="Poppins"/>
                  <a:ea typeface="Poppins"/>
                </a:rPr>
                <a:t> - </a:t>
              </a:r>
              <a:r>
                <a:rPr b="0" lang="id-ID" sz="900" spc="-1" strike="noStrike">
                  <a:solidFill>
                    <a:srgbClr val="0d0d0d"/>
                  </a:solidFill>
                  <a:latin typeface="Poppins"/>
                  <a:ea typeface="Poppins"/>
                </a:rPr>
                <a:t>2002</a:t>
              </a:r>
              <a:endParaRPr b="0" lang="en-US" sz="900" spc="-1" strike="noStrike">
                <a:solidFill>
                  <a:srgbClr val="000000"/>
                </a:solidFill>
                <a:latin typeface="Calibri"/>
              </a:endParaRPr>
            </a:p>
          </p:txBody>
        </p:sp>
        <p:sp>
          <p:nvSpPr>
            <p:cNvPr id="155" name="Rectangle 101"/>
            <p:cNvSpPr/>
            <p:nvPr/>
          </p:nvSpPr>
          <p:spPr>
            <a:xfrm>
              <a:off x="4673880" y="1681200"/>
              <a:ext cx="2093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DEGREE NAME  </a:t>
              </a:r>
              <a:endParaRPr b="0" lang="en-US" sz="9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consectetuer adipiscing elit, sed </a:t>
              </a:r>
              <a:endParaRPr b="0" lang="en-US" sz="900" spc="-1" strike="noStrike">
                <a:solidFill>
                  <a:srgbClr val="000000"/>
                </a:solidFill>
                <a:latin typeface="Calibri"/>
              </a:endParaRPr>
            </a:p>
          </p:txBody>
        </p:sp>
      </p:grpSp>
      <p:grpSp>
        <p:nvGrpSpPr>
          <p:cNvPr id="156" name="Group 102"/>
          <p:cNvGrpSpPr/>
          <p:nvPr/>
        </p:nvGrpSpPr>
        <p:grpSpPr>
          <a:xfrm>
            <a:off x="3767040" y="2119320"/>
            <a:ext cx="3000600" cy="368280"/>
            <a:chOff x="3767040" y="2119320"/>
            <a:chExt cx="3000600" cy="368280"/>
          </a:xfrm>
        </p:grpSpPr>
        <p:sp>
          <p:nvSpPr>
            <p:cNvPr id="157" name="Rectangle 103"/>
            <p:cNvSpPr/>
            <p:nvPr/>
          </p:nvSpPr>
          <p:spPr>
            <a:xfrm>
              <a:off x="3767040" y="2188440"/>
              <a:ext cx="9068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 </a:t>
              </a:r>
              <a:r>
                <a:rPr b="0" lang="id-ID" sz="900" spc="-1" strike="noStrike">
                  <a:solidFill>
                    <a:srgbClr val="0d0d0d"/>
                  </a:solidFill>
                  <a:latin typeface="Poppins"/>
                  <a:ea typeface="Poppins"/>
                </a:rPr>
                <a:t>2002</a:t>
              </a:r>
              <a:r>
                <a:rPr b="0" lang="en-US" sz="900" spc="-1" strike="noStrike">
                  <a:solidFill>
                    <a:srgbClr val="0d0d0d"/>
                  </a:solidFill>
                  <a:latin typeface="Poppins"/>
                  <a:ea typeface="Poppins"/>
                </a:rPr>
                <a:t> - </a:t>
              </a:r>
              <a:r>
                <a:rPr b="0" lang="id-ID" sz="900" spc="-1" strike="noStrike">
                  <a:solidFill>
                    <a:srgbClr val="0d0d0d"/>
                  </a:solidFill>
                  <a:latin typeface="Poppins"/>
                  <a:ea typeface="Poppins"/>
                </a:rPr>
                <a:t>2005</a:t>
              </a:r>
              <a:r>
                <a:rPr b="0" lang="en-US" sz="900" spc="-1" strike="noStrike">
                  <a:solidFill>
                    <a:srgbClr val="0d0d0d"/>
                  </a:solidFill>
                  <a:latin typeface="Poppins"/>
                  <a:ea typeface="Poppins"/>
                </a:rPr>
                <a:t> </a:t>
              </a:r>
              <a:endParaRPr b="0" lang="en-US" sz="900" spc="-1" strike="noStrike">
                <a:solidFill>
                  <a:srgbClr val="000000"/>
                </a:solidFill>
                <a:latin typeface="Calibri"/>
              </a:endParaRPr>
            </a:p>
          </p:txBody>
        </p:sp>
        <p:sp>
          <p:nvSpPr>
            <p:cNvPr id="158" name="Rectangle 104"/>
            <p:cNvSpPr/>
            <p:nvPr/>
          </p:nvSpPr>
          <p:spPr>
            <a:xfrm>
              <a:off x="4673880" y="2119320"/>
              <a:ext cx="2093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DEGREE NAME  </a:t>
              </a:r>
              <a:endParaRPr b="0" lang="en-US" sz="9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consectetuer adipiscing elit, sed </a:t>
              </a:r>
              <a:endParaRPr b="0" lang="en-US" sz="900" spc="-1" strike="noStrike">
                <a:solidFill>
                  <a:srgbClr val="000000"/>
                </a:solidFill>
                <a:latin typeface="Calibri"/>
              </a:endParaRPr>
            </a:p>
          </p:txBody>
        </p:sp>
      </p:grpSp>
      <p:grpSp>
        <p:nvGrpSpPr>
          <p:cNvPr id="159" name="Group 106"/>
          <p:cNvGrpSpPr/>
          <p:nvPr/>
        </p:nvGrpSpPr>
        <p:grpSpPr>
          <a:xfrm>
            <a:off x="3633840" y="2867040"/>
            <a:ext cx="2252520" cy="337320"/>
            <a:chOff x="3633840" y="2867040"/>
            <a:chExt cx="2252520" cy="337320"/>
          </a:xfrm>
        </p:grpSpPr>
        <p:sp>
          <p:nvSpPr>
            <p:cNvPr id="160" name="Oval 107"/>
            <p:cNvSpPr/>
            <p:nvPr/>
          </p:nvSpPr>
          <p:spPr>
            <a:xfrm>
              <a:off x="3633840" y="2926800"/>
              <a:ext cx="132840" cy="13356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TextBox 108"/>
            <p:cNvSpPr/>
            <p:nvPr/>
          </p:nvSpPr>
          <p:spPr>
            <a:xfrm>
              <a:off x="3767040" y="2867040"/>
              <a:ext cx="21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600" spc="-1" strike="noStrike">
                  <a:solidFill>
                    <a:srgbClr val="000000"/>
                  </a:solidFill>
                  <a:latin typeface="Poppins"/>
                  <a:ea typeface="Poppins"/>
                </a:rPr>
                <a:t> </a:t>
              </a:r>
              <a:r>
                <a:rPr b="0" lang="id-ID" sz="1600" spc="-1" strike="noStrike">
                  <a:solidFill>
                    <a:srgbClr val="000000"/>
                  </a:solidFill>
                  <a:latin typeface="Poppins"/>
                  <a:ea typeface="Poppins"/>
                </a:rPr>
                <a:t>WORK EXPERIENCE</a:t>
              </a:r>
              <a:endParaRPr b="0" lang="en-US" sz="1600" spc="-1" strike="noStrike">
                <a:solidFill>
                  <a:srgbClr val="000000"/>
                </a:solidFill>
                <a:latin typeface="Calibri"/>
              </a:endParaRPr>
            </a:p>
          </p:txBody>
        </p:sp>
      </p:grpSp>
      <p:sp>
        <p:nvSpPr>
          <p:cNvPr id="162" name="Rectangle 109"/>
          <p:cNvSpPr/>
          <p:nvPr/>
        </p:nvSpPr>
        <p:spPr>
          <a:xfrm>
            <a:off x="3833640" y="3214800"/>
            <a:ext cx="293400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Sed Ut Perspiciatis Unde Omnis Iste Natus Error Sit Voluptatem Accusol Orem Unde Omnis Iste Unde Omnis Iste Natus Error Sit Voluptatem Accusol Orem Unde Omnis Iste Unde Omnis Iste Natus Error Sit Voluptate Accusol Orem Accusol</a:t>
            </a:r>
            <a:endParaRPr b="0" lang="en-US" sz="900" spc="-1" strike="noStrike">
              <a:solidFill>
                <a:srgbClr val="000000"/>
              </a:solidFill>
              <a:latin typeface="Calibri"/>
            </a:endParaRPr>
          </a:p>
        </p:txBody>
      </p:sp>
      <p:grpSp>
        <p:nvGrpSpPr>
          <p:cNvPr id="163" name="Group 110"/>
          <p:cNvGrpSpPr/>
          <p:nvPr/>
        </p:nvGrpSpPr>
        <p:grpSpPr>
          <a:xfrm>
            <a:off x="3767040" y="4229280"/>
            <a:ext cx="3000600" cy="368280"/>
            <a:chOff x="3767040" y="4229280"/>
            <a:chExt cx="3000600" cy="368280"/>
          </a:xfrm>
        </p:grpSpPr>
        <p:sp>
          <p:nvSpPr>
            <p:cNvPr id="164" name="Rectangle 111"/>
            <p:cNvSpPr/>
            <p:nvPr/>
          </p:nvSpPr>
          <p:spPr>
            <a:xfrm>
              <a:off x="3767040" y="4298400"/>
              <a:ext cx="9068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 </a:t>
              </a:r>
              <a:r>
                <a:rPr b="0" lang="en-US" sz="900" spc="-1" strike="noStrike">
                  <a:solidFill>
                    <a:srgbClr val="0d0d0d"/>
                  </a:solidFill>
                  <a:latin typeface="Poppins"/>
                  <a:ea typeface="Poppins"/>
                </a:rPr>
                <a:t>199</a:t>
              </a:r>
              <a:r>
                <a:rPr b="0" lang="id-ID" sz="900" spc="-1" strike="noStrike">
                  <a:solidFill>
                    <a:srgbClr val="0d0d0d"/>
                  </a:solidFill>
                  <a:latin typeface="Poppins"/>
                  <a:ea typeface="Poppins"/>
                </a:rPr>
                <a:t>0</a:t>
              </a:r>
              <a:r>
                <a:rPr b="0" lang="en-US" sz="900" spc="-1" strike="noStrike">
                  <a:solidFill>
                    <a:srgbClr val="0d0d0d"/>
                  </a:solidFill>
                  <a:latin typeface="Poppins"/>
                  <a:ea typeface="Poppins"/>
                </a:rPr>
                <a:t> - </a:t>
              </a:r>
              <a:r>
                <a:rPr b="0" lang="id-ID" sz="900" spc="-1" strike="noStrike">
                  <a:solidFill>
                    <a:srgbClr val="0d0d0d"/>
                  </a:solidFill>
                  <a:latin typeface="Poppins"/>
                  <a:ea typeface="Poppins"/>
                </a:rPr>
                <a:t>2000</a:t>
              </a:r>
              <a:r>
                <a:rPr b="0" lang="en-US" sz="900" spc="-1" strike="noStrike">
                  <a:solidFill>
                    <a:srgbClr val="0d0d0d"/>
                  </a:solidFill>
                  <a:latin typeface="Poppins"/>
                  <a:ea typeface="Poppins"/>
                </a:rPr>
                <a:t> </a:t>
              </a:r>
              <a:endParaRPr b="0" lang="en-US" sz="900" spc="-1" strike="noStrike">
                <a:solidFill>
                  <a:srgbClr val="000000"/>
                </a:solidFill>
                <a:latin typeface="Calibri"/>
              </a:endParaRPr>
            </a:p>
          </p:txBody>
        </p:sp>
        <p:sp>
          <p:nvSpPr>
            <p:cNvPr id="165" name="Rectangle 112"/>
            <p:cNvSpPr/>
            <p:nvPr/>
          </p:nvSpPr>
          <p:spPr>
            <a:xfrm>
              <a:off x="4673880" y="4229280"/>
              <a:ext cx="2093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DEGREE NAME  </a:t>
              </a:r>
              <a:endParaRPr b="0" lang="en-US" sz="9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consectetuer adipiscing elit, sed </a:t>
              </a:r>
              <a:endParaRPr b="0" lang="en-US" sz="900" spc="-1" strike="noStrike">
                <a:solidFill>
                  <a:srgbClr val="000000"/>
                </a:solidFill>
                <a:latin typeface="Calibri"/>
              </a:endParaRPr>
            </a:p>
          </p:txBody>
        </p:sp>
      </p:grpSp>
      <p:grpSp>
        <p:nvGrpSpPr>
          <p:cNvPr id="166" name="Group 113"/>
          <p:cNvGrpSpPr/>
          <p:nvPr/>
        </p:nvGrpSpPr>
        <p:grpSpPr>
          <a:xfrm>
            <a:off x="3767040" y="4826160"/>
            <a:ext cx="3000600" cy="368280"/>
            <a:chOff x="3767040" y="4826160"/>
            <a:chExt cx="3000600" cy="368280"/>
          </a:xfrm>
        </p:grpSpPr>
        <p:sp>
          <p:nvSpPr>
            <p:cNvPr id="167" name="Rectangle 114"/>
            <p:cNvSpPr/>
            <p:nvPr/>
          </p:nvSpPr>
          <p:spPr>
            <a:xfrm>
              <a:off x="3767040" y="4895280"/>
              <a:ext cx="9068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 </a:t>
              </a:r>
              <a:r>
                <a:rPr b="0" lang="id-ID" sz="900" spc="-1" strike="noStrike">
                  <a:solidFill>
                    <a:srgbClr val="0d0d0d"/>
                  </a:solidFill>
                  <a:latin typeface="Poppins"/>
                  <a:ea typeface="Poppins"/>
                </a:rPr>
                <a:t>2000</a:t>
              </a:r>
              <a:r>
                <a:rPr b="0" lang="en-US" sz="900" spc="-1" strike="noStrike">
                  <a:solidFill>
                    <a:srgbClr val="0d0d0d"/>
                  </a:solidFill>
                  <a:latin typeface="Poppins"/>
                  <a:ea typeface="Poppins"/>
                </a:rPr>
                <a:t> - </a:t>
              </a:r>
              <a:r>
                <a:rPr b="0" lang="id-ID" sz="900" spc="-1" strike="noStrike">
                  <a:solidFill>
                    <a:srgbClr val="0d0d0d"/>
                  </a:solidFill>
                  <a:latin typeface="Poppins"/>
                  <a:ea typeface="Poppins"/>
                </a:rPr>
                <a:t>2002</a:t>
              </a:r>
              <a:endParaRPr b="0" lang="en-US" sz="900" spc="-1" strike="noStrike">
                <a:solidFill>
                  <a:srgbClr val="000000"/>
                </a:solidFill>
                <a:latin typeface="Calibri"/>
              </a:endParaRPr>
            </a:p>
          </p:txBody>
        </p:sp>
        <p:sp>
          <p:nvSpPr>
            <p:cNvPr id="168" name="Rectangle 115"/>
            <p:cNvSpPr/>
            <p:nvPr/>
          </p:nvSpPr>
          <p:spPr>
            <a:xfrm>
              <a:off x="4673880" y="4826160"/>
              <a:ext cx="2093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DEGREE NAME  </a:t>
              </a:r>
              <a:endParaRPr b="0" lang="en-US" sz="9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consectetuer adipiscing elit, sed </a:t>
              </a:r>
              <a:endParaRPr b="0" lang="en-US" sz="900" spc="-1" strike="noStrike">
                <a:solidFill>
                  <a:srgbClr val="000000"/>
                </a:solidFill>
                <a:latin typeface="Calibri"/>
              </a:endParaRPr>
            </a:p>
          </p:txBody>
        </p:sp>
      </p:grpSp>
      <p:grpSp>
        <p:nvGrpSpPr>
          <p:cNvPr id="169" name="Group 116"/>
          <p:cNvGrpSpPr/>
          <p:nvPr/>
        </p:nvGrpSpPr>
        <p:grpSpPr>
          <a:xfrm>
            <a:off x="3767040" y="5424480"/>
            <a:ext cx="3000600" cy="368280"/>
            <a:chOff x="3767040" y="5424480"/>
            <a:chExt cx="3000600" cy="368280"/>
          </a:xfrm>
        </p:grpSpPr>
        <p:sp>
          <p:nvSpPr>
            <p:cNvPr id="170" name="Rectangle 117"/>
            <p:cNvSpPr/>
            <p:nvPr/>
          </p:nvSpPr>
          <p:spPr>
            <a:xfrm>
              <a:off x="3767040" y="5493600"/>
              <a:ext cx="906840" cy="23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 </a:t>
              </a:r>
              <a:r>
                <a:rPr b="0" lang="id-ID" sz="900" spc="-1" strike="noStrike">
                  <a:solidFill>
                    <a:srgbClr val="0d0d0d"/>
                  </a:solidFill>
                  <a:latin typeface="Poppins"/>
                  <a:ea typeface="Poppins"/>
                </a:rPr>
                <a:t>2002</a:t>
              </a:r>
              <a:r>
                <a:rPr b="0" lang="en-US" sz="900" spc="-1" strike="noStrike">
                  <a:solidFill>
                    <a:srgbClr val="0d0d0d"/>
                  </a:solidFill>
                  <a:latin typeface="Poppins"/>
                  <a:ea typeface="Poppins"/>
                </a:rPr>
                <a:t> - </a:t>
              </a:r>
              <a:r>
                <a:rPr b="0" lang="id-ID" sz="900" spc="-1" strike="noStrike">
                  <a:solidFill>
                    <a:srgbClr val="0d0d0d"/>
                  </a:solidFill>
                  <a:latin typeface="Poppins"/>
                  <a:ea typeface="Poppins"/>
                </a:rPr>
                <a:t>2005</a:t>
              </a:r>
              <a:r>
                <a:rPr b="0" lang="en-US" sz="900" spc="-1" strike="noStrike">
                  <a:solidFill>
                    <a:srgbClr val="0d0d0d"/>
                  </a:solidFill>
                  <a:latin typeface="Poppins"/>
                  <a:ea typeface="Poppins"/>
                </a:rPr>
                <a:t> </a:t>
              </a:r>
              <a:endParaRPr b="0" lang="en-US" sz="900" spc="-1" strike="noStrike">
                <a:solidFill>
                  <a:srgbClr val="000000"/>
                </a:solidFill>
                <a:latin typeface="Calibri"/>
              </a:endParaRPr>
            </a:p>
          </p:txBody>
        </p:sp>
        <p:sp>
          <p:nvSpPr>
            <p:cNvPr id="171" name="Rectangle 118"/>
            <p:cNvSpPr/>
            <p:nvPr/>
          </p:nvSpPr>
          <p:spPr>
            <a:xfrm>
              <a:off x="4673880" y="5424480"/>
              <a:ext cx="20937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DEGREE NAME  </a:t>
              </a:r>
              <a:endParaRPr b="0" lang="en-US" sz="9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consectetuer adipiscing elit, sed </a:t>
              </a:r>
              <a:endParaRPr b="0" lang="en-US" sz="900" spc="-1" strike="noStrike">
                <a:solidFill>
                  <a:srgbClr val="000000"/>
                </a:solidFill>
                <a:latin typeface="Calibri"/>
              </a:endParaRPr>
            </a:p>
          </p:txBody>
        </p:sp>
      </p:grpSp>
      <p:grpSp>
        <p:nvGrpSpPr>
          <p:cNvPr id="172" name="Group 119"/>
          <p:cNvGrpSpPr/>
          <p:nvPr/>
        </p:nvGrpSpPr>
        <p:grpSpPr>
          <a:xfrm>
            <a:off x="3633840" y="6211800"/>
            <a:ext cx="2252520" cy="337320"/>
            <a:chOff x="3633840" y="6211800"/>
            <a:chExt cx="2252520" cy="337320"/>
          </a:xfrm>
        </p:grpSpPr>
        <p:sp>
          <p:nvSpPr>
            <p:cNvPr id="173" name="Oval 120"/>
            <p:cNvSpPr/>
            <p:nvPr/>
          </p:nvSpPr>
          <p:spPr>
            <a:xfrm>
              <a:off x="3633840" y="6271200"/>
              <a:ext cx="132840" cy="1328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Box 121"/>
            <p:cNvSpPr/>
            <p:nvPr/>
          </p:nvSpPr>
          <p:spPr>
            <a:xfrm>
              <a:off x="3767040" y="6211800"/>
              <a:ext cx="21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600" spc="-1" strike="noStrike">
                  <a:solidFill>
                    <a:srgbClr val="000000"/>
                  </a:solidFill>
                  <a:latin typeface="Poppins"/>
                  <a:ea typeface="Poppins"/>
                </a:rPr>
                <a:t>REFERENCE</a:t>
              </a:r>
              <a:endParaRPr b="0" lang="en-US" sz="1600" spc="-1" strike="noStrike">
                <a:solidFill>
                  <a:srgbClr val="000000"/>
                </a:solidFill>
                <a:latin typeface="Calibri"/>
              </a:endParaRPr>
            </a:p>
          </p:txBody>
        </p:sp>
      </p:grpSp>
      <p:sp>
        <p:nvSpPr>
          <p:cNvPr id="175" name="Rectangle 122"/>
          <p:cNvSpPr/>
          <p:nvPr/>
        </p:nvSpPr>
        <p:spPr>
          <a:xfrm>
            <a:off x="3833640" y="6629400"/>
            <a:ext cx="2934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Sed Ut Perspiciatis Unde Omnis Iste Natus Error Sit Voluptatem Accusol</a:t>
            </a:r>
            <a:endParaRPr b="0" lang="en-US" sz="900" spc="-1" strike="noStrike">
              <a:solidFill>
                <a:srgbClr val="000000"/>
              </a:solidFill>
              <a:latin typeface="Calibri"/>
            </a:endParaRPr>
          </a:p>
        </p:txBody>
      </p:sp>
      <p:sp>
        <p:nvSpPr>
          <p:cNvPr id="176" name="Rectangle 123"/>
          <p:cNvSpPr/>
          <p:nvPr/>
        </p:nvSpPr>
        <p:spPr>
          <a:xfrm>
            <a:off x="3833640" y="7202520"/>
            <a:ext cx="2934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Sed Ut Perspiciatis Unde Omnis Iste Natus Error Sit Voluptatem Accusol</a:t>
            </a:r>
            <a:endParaRPr b="0" lang="en-US" sz="900" spc="-1" strike="noStrike">
              <a:solidFill>
                <a:srgbClr val="000000"/>
              </a:solidFill>
              <a:latin typeface="Calibri"/>
            </a:endParaRPr>
          </a:p>
        </p:txBody>
      </p:sp>
      <p:sp>
        <p:nvSpPr>
          <p:cNvPr id="177" name="Rectangle 124"/>
          <p:cNvSpPr/>
          <p:nvPr/>
        </p:nvSpPr>
        <p:spPr>
          <a:xfrm>
            <a:off x="3794040" y="7773840"/>
            <a:ext cx="2932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Sed Ut Perspiciatis Unde Omnis Iste Natus Error Sit Voluptatem Accusol</a:t>
            </a:r>
            <a:endParaRPr b="0" lang="en-US" sz="900" spc="-1" strike="noStrike">
              <a:solidFill>
                <a:srgbClr val="000000"/>
              </a:solidFill>
              <a:latin typeface="Calibri"/>
            </a:endParaRPr>
          </a:p>
        </p:txBody>
      </p:sp>
      <p:sp>
        <p:nvSpPr>
          <p:cNvPr id="178" name="Rectangle 125"/>
          <p:cNvSpPr/>
          <p:nvPr/>
        </p:nvSpPr>
        <p:spPr>
          <a:xfrm>
            <a:off x="3794040" y="8346960"/>
            <a:ext cx="2932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Sed Ut Perspiciatis Unde Omnis Iste Natus Error Sit Voluptatem Accusol</a:t>
            </a:r>
            <a:endParaRPr b="0" lang="en-US" sz="900" spc="-1" strike="noStrike">
              <a:solidFill>
                <a:srgbClr val="000000"/>
              </a:solidFill>
              <a:latin typeface="Calibri"/>
            </a:endParaRPr>
          </a:p>
        </p:txBody>
      </p:sp>
      <p:sp>
        <p:nvSpPr>
          <p:cNvPr id="179" name="Rectangle 126"/>
          <p:cNvSpPr/>
          <p:nvPr/>
        </p:nvSpPr>
        <p:spPr>
          <a:xfrm>
            <a:off x="3794040" y="8918640"/>
            <a:ext cx="2932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Sed Ut Perspiciatis Unde Omnis Iste Natus Error Sit Voluptatem Accusol</a:t>
            </a:r>
            <a:endParaRPr b="0" lang="en-US" sz="900" spc="-1" strike="noStrike">
              <a:solidFill>
                <a:srgbClr val="000000"/>
              </a:solidFill>
              <a:latin typeface="Calibri"/>
            </a:endParaRPr>
          </a:p>
        </p:txBody>
      </p:sp>
      <p:grpSp>
        <p:nvGrpSpPr>
          <p:cNvPr id="180" name="Group 9"/>
          <p:cNvGrpSpPr/>
          <p:nvPr/>
        </p:nvGrpSpPr>
        <p:grpSpPr>
          <a:xfrm>
            <a:off x="676440" y="8683560"/>
            <a:ext cx="161640" cy="162000"/>
            <a:chOff x="676440" y="8683560"/>
            <a:chExt cx="161640" cy="162000"/>
          </a:xfrm>
        </p:grpSpPr>
        <p:sp>
          <p:nvSpPr>
            <p:cNvPr id="181" name="Freeform: Shape 4"/>
            <p:cNvSpPr/>
            <p:nvPr/>
          </p:nvSpPr>
          <p:spPr>
            <a:xfrm>
              <a:off x="676440" y="8683560"/>
              <a:ext cx="161640" cy="162000"/>
            </a:xfrm>
            <a:custGeom>
              <a:avLst/>
              <a:gdLst/>
              <a:ahLst/>
              <a:rect l="l" t="t" r="r" b="b"/>
              <a:pathLst>
                <a:path w="161925" h="161925">
                  <a:moveTo>
                    <a:pt x="145256" y="40585"/>
                  </a:moveTo>
                  <a:cubicBezTo>
                    <a:pt x="127159" y="14868"/>
                    <a:pt x="102394" y="3438"/>
                    <a:pt x="71914" y="8200"/>
                  </a:cubicBezTo>
                  <a:cubicBezTo>
                    <a:pt x="47149" y="11058"/>
                    <a:pt x="28099" y="25345"/>
                    <a:pt x="16669" y="47253"/>
                  </a:cubicBezTo>
                  <a:cubicBezTo>
                    <a:pt x="4286" y="71065"/>
                    <a:pt x="4286" y="95830"/>
                    <a:pt x="16669" y="119643"/>
                  </a:cubicBezTo>
                  <a:cubicBezTo>
                    <a:pt x="17621" y="121548"/>
                    <a:pt x="17621" y="122500"/>
                    <a:pt x="16669" y="124405"/>
                  </a:cubicBezTo>
                  <a:cubicBezTo>
                    <a:pt x="13811" y="134883"/>
                    <a:pt x="10954" y="146313"/>
                    <a:pt x="7144" y="156790"/>
                  </a:cubicBezTo>
                  <a:cubicBezTo>
                    <a:pt x="7144" y="158695"/>
                    <a:pt x="7144" y="158695"/>
                    <a:pt x="10001" y="157743"/>
                  </a:cubicBezTo>
                  <a:cubicBezTo>
                    <a:pt x="21431" y="154885"/>
                    <a:pt x="32861" y="152028"/>
                    <a:pt x="43339" y="149170"/>
                  </a:cubicBezTo>
                  <a:cubicBezTo>
                    <a:pt x="45244" y="148218"/>
                    <a:pt x="46196" y="149170"/>
                    <a:pt x="48101" y="150123"/>
                  </a:cubicBezTo>
                  <a:cubicBezTo>
                    <a:pt x="66199" y="159648"/>
                    <a:pt x="85249" y="161553"/>
                    <a:pt x="105251" y="154885"/>
                  </a:cubicBezTo>
                  <a:cubicBezTo>
                    <a:pt x="136684" y="145360"/>
                    <a:pt x="158591" y="115833"/>
                    <a:pt x="158591" y="85353"/>
                  </a:cubicBezTo>
                  <a:cubicBezTo>
                    <a:pt x="158591" y="67255"/>
                    <a:pt x="154781" y="52968"/>
                    <a:pt x="145256" y="40585"/>
                  </a:cubicBezTo>
                  <a:close/>
                  <a:moveTo>
                    <a:pt x="98584" y="143455"/>
                  </a:moveTo>
                  <a:cubicBezTo>
                    <a:pt x="81439" y="148218"/>
                    <a:pt x="65246" y="145360"/>
                    <a:pt x="50006" y="135835"/>
                  </a:cubicBezTo>
                  <a:cubicBezTo>
                    <a:pt x="48101" y="134883"/>
                    <a:pt x="47149" y="134883"/>
                    <a:pt x="45244" y="134883"/>
                  </a:cubicBezTo>
                  <a:cubicBezTo>
                    <a:pt x="39529" y="136788"/>
                    <a:pt x="33814" y="137740"/>
                    <a:pt x="27146" y="139645"/>
                  </a:cubicBezTo>
                  <a:cubicBezTo>
                    <a:pt x="26194" y="140598"/>
                    <a:pt x="25241" y="140598"/>
                    <a:pt x="26194" y="138693"/>
                  </a:cubicBezTo>
                  <a:cubicBezTo>
                    <a:pt x="28099" y="132978"/>
                    <a:pt x="29051" y="127263"/>
                    <a:pt x="30956" y="121548"/>
                  </a:cubicBezTo>
                  <a:cubicBezTo>
                    <a:pt x="30956" y="120595"/>
                    <a:pt x="30956" y="118690"/>
                    <a:pt x="30004" y="117738"/>
                  </a:cubicBezTo>
                  <a:cubicBezTo>
                    <a:pt x="21431" y="104403"/>
                    <a:pt x="17621" y="89163"/>
                    <a:pt x="20479" y="72970"/>
                  </a:cubicBezTo>
                  <a:cubicBezTo>
                    <a:pt x="23336" y="54873"/>
                    <a:pt x="32861" y="40585"/>
                    <a:pt x="48101" y="31060"/>
                  </a:cubicBezTo>
                  <a:cubicBezTo>
                    <a:pt x="58579" y="24393"/>
                    <a:pt x="70009" y="20583"/>
                    <a:pt x="84296" y="20583"/>
                  </a:cubicBezTo>
                  <a:cubicBezTo>
                    <a:pt x="111919" y="20583"/>
                    <a:pt x="137636" y="41538"/>
                    <a:pt x="144304" y="71065"/>
                  </a:cubicBezTo>
                  <a:cubicBezTo>
                    <a:pt x="150971" y="102498"/>
                    <a:pt x="130969" y="134883"/>
                    <a:pt x="98584" y="143455"/>
                  </a:cubicBezTo>
                  <a:close/>
                </a:path>
              </a:pathLst>
            </a:custGeom>
            <a:solidFill>
              <a:srgbClr val="010101"/>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82" name="Freeform: Shape 5"/>
            <p:cNvSpPr/>
            <p:nvPr/>
          </p:nvSpPr>
          <p:spPr>
            <a:xfrm>
              <a:off x="714240" y="8723520"/>
              <a:ext cx="85680" cy="85680"/>
            </a:xfrm>
            <a:custGeom>
              <a:avLst/>
              <a:gdLst/>
              <a:ahLst/>
              <a:rect l="l" t="t" r="r" b="b"/>
              <a:pathLst>
                <a:path w="85725" h="85725">
                  <a:moveTo>
                    <a:pt x="81687" y="58821"/>
                  </a:moveTo>
                  <a:cubicBezTo>
                    <a:pt x="76924" y="56916"/>
                    <a:pt x="72162" y="54059"/>
                    <a:pt x="66447" y="52154"/>
                  </a:cubicBezTo>
                  <a:cubicBezTo>
                    <a:pt x="64542" y="51201"/>
                    <a:pt x="63589" y="51201"/>
                    <a:pt x="61684" y="53106"/>
                  </a:cubicBezTo>
                  <a:cubicBezTo>
                    <a:pt x="60732" y="55011"/>
                    <a:pt x="59779" y="55964"/>
                    <a:pt x="58827" y="57869"/>
                  </a:cubicBezTo>
                  <a:cubicBezTo>
                    <a:pt x="55017" y="62631"/>
                    <a:pt x="55969" y="62631"/>
                    <a:pt x="50254" y="59774"/>
                  </a:cubicBezTo>
                  <a:cubicBezTo>
                    <a:pt x="40729" y="55011"/>
                    <a:pt x="33109" y="48344"/>
                    <a:pt x="27394" y="38819"/>
                  </a:cubicBezTo>
                  <a:cubicBezTo>
                    <a:pt x="26442" y="37866"/>
                    <a:pt x="26442" y="35961"/>
                    <a:pt x="27394" y="35009"/>
                  </a:cubicBezTo>
                  <a:cubicBezTo>
                    <a:pt x="29299" y="33104"/>
                    <a:pt x="30252" y="32151"/>
                    <a:pt x="31204" y="30246"/>
                  </a:cubicBezTo>
                  <a:cubicBezTo>
                    <a:pt x="33109" y="28341"/>
                    <a:pt x="33109" y="26436"/>
                    <a:pt x="32157" y="24531"/>
                  </a:cubicBezTo>
                  <a:cubicBezTo>
                    <a:pt x="31204" y="20721"/>
                    <a:pt x="29299" y="15959"/>
                    <a:pt x="27394" y="12149"/>
                  </a:cubicBezTo>
                  <a:cubicBezTo>
                    <a:pt x="26442" y="8339"/>
                    <a:pt x="24537" y="6434"/>
                    <a:pt x="20727" y="7386"/>
                  </a:cubicBezTo>
                  <a:cubicBezTo>
                    <a:pt x="18822" y="7386"/>
                    <a:pt x="16917" y="7386"/>
                    <a:pt x="15012" y="8339"/>
                  </a:cubicBezTo>
                  <a:cubicBezTo>
                    <a:pt x="11202" y="12149"/>
                    <a:pt x="8344" y="15959"/>
                    <a:pt x="7392" y="20721"/>
                  </a:cubicBezTo>
                  <a:cubicBezTo>
                    <a:pt x="6439" y="28341"/>
                    <a:pt x="8344" y="35009"/>
                    <a:pt x="11202" y="40724"/>
                  </a:cubicBezTo>
                  <a:cubicBezTo>
                    <a:pt x="17869" y="51201"/>
                    <a:pt x="26442" y="60726"/>
                    <a:pt x="36919" y="68346"/>
                  </a:cubicBezTo>
                  <a:cubicBezTo>
                    <a:pt x="44539" y="74061"/>
                    <a:pt x="53112" y="77871"/>
                    <a:pt x="61684" y="78824"/>
                  </a:cubicBezTo>
                  <a:cubicBezTo>
                    <a:pt x="71209" y="80729"/>
                    <a:pt x="81687" y="75966"/>
                    <a:pt x="83592" y="62631"/>
                  </a:cubicBezTo>
                  <a:cubicBezTo>
                    <a:pt x="83592" y="60726"/>
                    <a:pt x="83592" y="59774"/>
                    <a:pt x="81687" y="58821"/>
                  </a:cubicBezTo>
                  <a:close/>
                </a:path>
              </a:pathLst>
            </a:custGeom>
            <a:solidFill>
              <a:srgbClr val="010101"/>
            </a:solidFill>
            <a:ln w="0">
              <a:noFill/>
            </a:ln>
          </p:spPr>
          <p:style>
            <a:lnRef idx="0"/>
            <a:fillRef idx="0"/>
            <a:effectRef idx="0"/>
            <a:fontRef idx="minor"/>
          </p:style>
          <p:txBody>
            <a:bodyPr tIns="39960" bIns="39960" anchor="ctr">
              <a:noAutofit/>
            </a:bodyPr>
            <a:p>
              <a:endParaRPr b="0" lang="en-US" sz="1800" spc="-1" strike="noStrike">
                <a:solidFill>
                  <a:srgbClr val="000000"/>
                </a:solidFill>
                <a:latin typeface="Calibri"/>
              </a:endParaRPr>
            </a:p>
          </p:txBody>
        </p:sp>
      </p:grpSp>
      <p:sp>
        <p:nvSpPr>
          <p:cNvPr id="183" name="Freeform: Shape 6"/>
          <p:cNvSpPr/>
          <p:nvPr/>
        </p:nvSpPr>
        <p:spPr>
          <a:xfrm>
            <a:off x="681120" y="8997840"/>
            <a:ext cx="152280" cy="152640"/>
          </a:xfrm>
          <a:custGeom>
            <a:avLst/>
            <a:gdLst/>
            <a:ahLst/>
            <a:rect l="l" t="t" r="r" b="b"/>
            <a:pathLst>
              <a:path w="152400" h="152400">
                <a:moveTo>
                  <a:pt x="9049" y="7144"/>
                </a:moveTo>
                <a:cubicBezTo>
                  <a:pt x="21431" y="7144"/>
                  <a:pt x="131921" y="7144"/>
                  <a:pt x="145256" y="7144"/>
                </a:cubicBezTo>
                <a:cubicBezTo>
                  <a:pt x="146209" y="7144"/>
                  <a:pt x="146209" y="8096"/>
                  <a:pt x="146209" y="8096"/>
                </a:cubicBezTo>
                <a:lnTo>
                  <a:pt x="146209" y="8096"/>
                </a:lnTo>
                <a:cubicBezTo>
                  <a:pt x="146209" y="53816"/>
                  <a:pt x="146209" y="98584"/>
                  <a:pt x="146209" y="144304"/>
                </a:cubicBezTo>
                <a:cubicBezTo>
                  <a:pt x="146209" y="146209"/>
                  <a:pt x="146209" y="146209"/>
                  <a:pt x="144304" y="146209"/>
                </a:cubicBezTo>
                <a:cubicBezTo>
                  <a:pt x="130969" y="146209"/>
                  <a:pt x="117634" y="146209"/>
                  <a:pt x="104299" y="146209"/>
                </a:cubicBezTo>
                <a:cubicBezTo>
                  <a:pt x="102394" y="146209"/>
                  <a:pt x="102394" y="146209"/>
                  <a:pt x="102394" y="144304"/>
                </a:cubicBezTo>
                <a:cubicBezTo>
                  <a:pt x="102394" y="128111"/>
                  <a:pt x="102394" y="110966"/>
                  <a:pt x="102394" y="94774"/>
                </a:cubicBezTo>
                <a:cubicBezTo>
                  <a:pt x="102394" y="92869"/>
                  <a:pt x="102394" y="91916"/>
                  <a:pt x="105251" y="91916"/>
                </a:cubicBezTo>
                <a:cubicBezTo>
                  <a:pt x="109061" y="91916"/>
                  <a:pt x="113824" y="91916"/>
                  <a:pt x="117634" y="91916"/>
                </a:cubicBezTo>
                <a:cubicBezTo>
                  <a:pt x="120491" y="91916"/>
                  <a:pt x="121444" y="91916"/>
                  <a:pt x="121444" y="88106"/>
                </a:cubicBezTo>
                <a:cubicBezTo>
                  <a:pt x="122396" y="83344"/>
                  <a:pt x="122396" y="78581"/>
                  <a:pt x="123349" y="74771"/>
                </a:cubicBezTo>
                <a:cubicBezTo>
                  <a:pt x="123349" y="71914"/>
                  <a:pt x="123349" y="71914"/>
                  <a:pt x="120491" y="71914"/>
                </a:cubicBezTo>
                <a:cubicBezTo>
                  <a:pt x="115729" y="71914"/>
                  <a:pt x="110966" y="71914"/>
                  <a:pt x="107156" y="71914"/>
                </a:cubicBezTo>
                <a:cubicBezTo>
                  <a:pt x="105251" y="71914"/>
                  <a:pt x="103346" y="70009"/>
                  <a:pt x="103346" y="68104"/>
                </a:cubicBezTo>
                <a:cubicBezTo>
                  <a:pt x="103346" y="64294"/>
                  <a:pt x="103346" y="60484"/>
                  <a:pt x="103346" y="56674"/>
                </a:cubicBezTo>
                <a:cubicBezTo>
                  <a:pt x="103346" y="51911"/>
                  <a:pt x="106204" y="49054"/>
                  <a:pt x="110014" y="48101"/>
                </a:cubicBezTo>
                <a:cubicBezTo>
                  <a:pt x="110966" y="48101"/>
                  <a:pt x="111919" y="48101"/>
                  <a:pt x="111919" y="48101"/>
                </a:cubicBezTo>
                <a:cubicBezTo>
                  <a:pt x="114776" y="48101"/>
                  <a:pt x="118586" y="48101"/>
                  <a:pt x="121444" y="48101"/>
                </a:cubicBezTo>
                <a:cubicBezTo>
                  <a:pt x="123349" y="48101"/>
                  <a:pt x="124301" y="47149"/>
                  <a:pt x="124301" y="45244"/>
                </a:cubicBezTo>
                <a:cubicBezTo>
                  <a:pt x="124301" y="41434"/>
                  <a:pt x="124301" y="36671"/>
                  <a:pt x="124301" y="32861"/>
                </a:cubicBezTo>
                <a:cubicBezTo>
                  <a:pt x="124301" y="30956"/>
                  <a:pt x="123349" y="30004"/>
                  <a:pt x="122396" y="30004"/>
                </a:cubicBezTo>
                <a:cubicBezTo>
                  <a:pt x="115729" y="30004"/>
                  <a:pt x="109061" y="29051"/>
                  <a:pt x="102394" y="30956"/>
                </a:cubicBezTo>
                <a:cubicBezTo>
                  <a:pt x="90964" y="32861"/>
                  <a:pt x="83344" y="42386"/>
                  <a:pt x="82391" y="53816"/>
                </a:cubicBezTo>
                <a:cubicBezTo>
                  <a:pt x="82391" y="59531"/>
                  <a:pt x="82391" y="65246"/>
                  <a:pt x="82391" y="70961"/>
                </a:cubicBezTo>
                <a:cubicBezTo>
                  <a:pt x="82391" y="72866"/>
                  <a:pt x="82391" y="73819"/>
                  <a:pt x="79534" y="73819"/>
                </a:cubicBezTo>
                <a:cubicBezTo>
                  <a:pt x="75724" y="73819"/>
                  <a:pt x="71914" y="73819"/>
                  <a:pt x="68104" y="73819"/>
                </a:cubicBezTo>
                <a:cubicBezTo>
                  <a:pt x="67151" y="73819"/>
                  <a:pt x="67151" y="73819"/>
                  <a:pt x="66199" y="73819"/>
                </a:cubicBezTo>
                <a:cubicBezTo>
                  <a:pt x="64294" y="73819"/>
                  <a:pt x="64294" y="74771"/>
                  <a:pt x="64294" y="76676"/>
                </a:cubicBezTo>
                <a:cubicBezTo>
                  <a:pt x="64294" y="78581"/>
                  <a:pt x="64294" y="80486"/>
                  <a:pt x="64294" y="82391"/>
                </a:cubicBezTo>
                <a:cubicBezTo>
                  <a:pt x="64294" y="85249"/>
                  <a:pt x="64294" y="88106"/>
                  <a:pt x="64294" y="90964"/>
                </a:cubicBezTo>
                <a:cubicBezTo>
                  <a:pt x="64294" y="93821"/>
                  <a:pt x="65246" y="93821"/>
                  <a:pt x="67151" y="93821"/>
                </a:cubicBezTo>
                <a:cubicBezTo>
                  <a:pt x="70961" y="93821"/>
                  <a:pt x="75724" y="93821"/>
                  <a:pt x="79534" y="93821"/>
                </a:cubicBezTo>
                <a:cubicBezTo>
                  <a:pt x="81439" y="93821"/>
                  <a:pt x="81439" y="93821"/>
                  <a:pt x="81439" y="95726"/>
                </a:cubicBezTo>
                <a:cubicBezTo>
                  <a:pt x="81439" y="112871"/>
                  <a:pt x="81439" y="129064"/>
                  <a:pt x="81439" y="146209"/>
                </a:cubicBezTo>
                <a:cubicBezTo>
                  <a:pt x="81439" y="148114"/>
                  <a:pt x="81439" y="148114"/>
                  <a:pt x="79534" y="148114"/>
                </a:cubicBezTo>
                <a:cubicBezTo>
                  <a:pt x="55721" y="148114"/>
                  <a:pt x="32861" y="148114"/>
                  <a:pt x="9049" y="148114"/>
                </a:cubicBezTo>
                <a:cubicBezTo>
                  <a:pt x="9049" y="148114"/>
                  <a:pt x="9049" y="148114"/>
                  <a:pt x="9049" y="148114"/>
                </a:cubicBezTo>
                <a:cubicBezTo>
                  <a:pt x="7144" y="148114"/>
                  <a:pt x="7144" y="148114"/>
                  <a:pt x="7144" y="146209"/>
                </a:cubicBezTo>
                <a:cubicBezTo>
                  <a:pt x="7144" y="101441"/>
                  <a:pt x="7144" y="55721"/>
                  <a:pt x="7144" y="10954"/>
                </a:cubicBezTo>
                <a:cubicBezTo>
                  <a:pt x="7144" y="10954"/>
                  <a:pt x="7144" y="10954"/>
                  <a:pt x="7144" y="10954"/>
                </a:cubicBezTo>
                <a:cubicBezTo>
                  <a:pt x="8096" y="7144"/>
                  <a:pt x="8096" y="7144"/>
                  <a:pt x="9049" y="7144"/>
                </a:cubicBezTo>
                <a:close/>
              </a:path>
            </a:pathLst>
          </a:custGeom>
          <a:solidFill>
            <a:srgbClr val="000000"/>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84" name="Freeform: Shape 7"/>
          <p:cNvSpPr/>
          <p:nvPr/>
        </p:nvSpPr>
        <p:spPr>
          <a:xfrm>
            <a:off x="1849320" y="8685360"/>
            <a:ext cx="171720" cy="133200"/>
          </a:xfrm>
          <a:custGeom>
            <a:avLst/>
            <a:gdLst/>
            <a:ahLst/>
            <a:rect l="l" t="t" r="r" b="b"/>
            <a:pathLst>
              <a:path w="171450" h="133350">
                <a:moveTo>
                  <a:pt x="161449" y="8783"/>
                </a:moveTo>
                <a:cubicBezTo>
                  <a:pt x="158591" y="16403"/>
                  <a:pt x="154781" y="22118"/>
                  <a:pt x="148114" y="25928"/>
                </a:cubicBezTo>
                <a:cubicBezTo>
                  <a:pt x="153829" y="24976"/>
                  <a:pt x="159544" y="24023"/>
                  <a:pt x="165259" y="21166"/>
                </a:cubicBezTo>
                <a:cubicBezTo>
                  <a:pt x="164306" y="22118"/>
                  <a:pt x="164306" y="23071"/>
                  <a:pt x="163354" y="23071"/>
                </a:cubicBezTo>
                <a:cubicBezTo>
                  <a:pt x="162401" y="24023"/>
                  <a:pt x="162401" y="24976"/>
                  <a:pt x="161449" y="24976"/>
                </a:cubicBezTo>
                <a:cubicBezTo>
                  <a:pt x="157639" y="28786"/>
                  <a:pt x="153829" y="32596"/>
                  <a:pt x="150019" y="35453"/>
                </a:cubicBezTo>
                <a:cubicBezTo>
                  <a:pt x="149066" y="36406"/>
                  <a:pt x="149066" y="36406"/>
                  <a:pt x="149066" y="38311"/>
                </a:cubicBezTo>
                <a:cubicBezTo>
                  <a:pt x="149066" y="65933"/>
                  <a:pt x="139541" y="89746"/>
                  <a:pt x="119539" y="109748"/>
                </a:cubicBezTo>
                <a:cubicBezTo>
                  <a:pt x="107156" y="122131"/>
                  <a:pt x="91916" y="128798"/>
                  <a:pt x="74771" y="132608"/>
                </a:cubicBezTo>
                <a:cubicBezTo>
                  <a:pt x="57626" y="135466"/>
                  <a:pt x="41434" y="134513"/>
                  <a:pt x="25241" y="128798"/>
                </a:cubicBezTo>
                <a:cubicBezTo>
                  <a:pt x="19526" y="126893"/>
                  <a:pt x="13811" y="124036"/>
                  <a:pt x="8096" y="120226"/>
                </a:cubicBezTo>
                <a:cubicBezTo>
                  <a:pt x="8096" y="120226"/>
                  <a:pt x="8096" y="120226"/>
                  <a:pt x="7144" y="119273"/>
                </a:cubicBezTo>
                <a:cubicBezTo>
                  <a:pt x="15716" y="120226"/>
                  <a:pt x="24289" y="119273"/>
                  <a:pt x="31909" y="117368"/>
                </a:cubicBezTo>
                <a:cubicBezTo>
                  <a:pt x="39529" y="115463"/>
                  <a:pt x="47149" y="111653"/>
                  <a:pt x="53816" y="105938"/>
                </a:cubicBezTo>
                <a:cubicBezTo>
                  <a:pt x="38576" y="104986"/>
                  <a:pt x="29051" y="97366"/>
                  <a:pt x="24289" y="84031"/>
                </a:cubicBezTo>
                <a:cubicBezTo>
                  <a:pt x="27146" y="84031"/>
                  <a:pt x="29051" y="84031"/>
                  <a:pt x="30956" y="84031"/>
                </a:cubicBezTo>
                <a:cubicBezTo>
                  <a:pt x="32861" y="84031"/>
                  <a:pt x="35719" y="83078"/>
                  <a:pt x="37624" y="83078"/>
                </a:cubicBezTo>
                <a:cubicBezTo>
                  <a:pt x="30004" y="81173"/>
                  <a:pt x="24289" y="77363"/>
                  <a:pt x="19526" y="71648"/>
                </a:cubicBezTo>
                <a:cubicBezTo>
                  <a:pt x="14764" y="65933"/>
                  <a:pt x="11906" y="59266"/>
                  <a:pt x="12859" y="50693"/>
                </a:cubicBezTo>
                <a:cubicBezTo>
                  <a:pt x="18574" y="53551"/>
                  <a:pt x="23336" y="54503"/>
                  <a:pt x="28099" y="55456"/>
                </a:cubicBezTo>
                <a:cubicBezTo>
                  <a:pt x="13811" y="43073"/>
                  <a:pt x="10954" y="28786"/>
                  <a:pt x="18574" y="12593"/>
                </a:cubicBezTo>
                <a:cubicBezTo>
                  <a:pt x="36671" y="33548"/>
                  <a:pt x="58579" y="44978"/>
                  <a:pt x="85249" y="46883"/>
                </a:cubicBezTo>
                <a:cubicBezTo>
                  <a:pt x="85249" y="44978"/>
                  <a:pt x="84296" y="43073"/>
                  <a:pt x="84296" y="41168"/>
                </a:cubicBezTo>
                <a:cubicBezTo>
                  <a:pt x="83344" y="24976"/>
                  <a:pt x="93821" y="10688"/>
                  <a:pt x="110014" y="7831"/>
                </a:cubicBezTo>
                <a:cubicBezTo>
                  <a:pt x="120491" y="5926"/>
                  <a:pt x="130969" y="7831"/>
                  <a:pt x="138589" y="15451"/>
                </a:cubicBezTo>
                <a:cubicBezTo>
                  <a:pt x="139541" y="16403"/>
                  <a:pt x="140494" y="16403"/>
                  <a:pt x="142399" y="16403"/>
                </a:cubicBezTo>
                <a:cubicBezTo>
                  <a:pt x="148114" y="14498"/>
                  <a:pt x="153829" y="12593"/>
                  <a:pt x="159544" y="9736"/>
                </a:cubicBezTo>
                <a:cubicBezTo>
                  <a:pt x="160496" y="8783"/>
                  <a:pt x="160496" y="8783"/>
                  <a:pt x="161449" y="8783"/>
                </a:cubicBezTo>
                <a:close/>
              </a:path>
            </a:pathLst>
          </a:custGeom>
          <a:solidFill>
            <a:srgbClr val="000000"/>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85" name="Freeform: Shape 8"/>
          <p:cNvSpPr/>
          <p:nvPr/>
        </p:nvSpPr>
        <p:spPr>
          <a:xfrm>
            <a:off x="1859040" y="8980560"/>
            <a:ext cx="162000" cy="162000"/>
          </a:xfrm>
          <a:custGeom>
            <a:avLst/>
            <a:gdLst/>
            <a:ahLst/>
            <a:rect l="l" t="t" r="r" b="b"/>
            <a:pathLst>
              <a:path w="161925" h="161925">
                <a:moveTo>
                  <a:pt x="141446" y="7144"/>
                </a:moveTo>
                <a:lnTo>
                  <a:pt x="22384" y="7144"/>
                </a:lnTo>
                <a:cubicBezTo>
                  <a:pt x="13811" y="7144"/>
                  <a:pt x="7144" y="13811"/>
                  <a:pt x="7144" y="22384"/>
                </a:cubicBezTo>
                <a:lnTo>
                  <a:pt x="7144" y="141446"/>
                </a:lnTo>
                <a:cubicBezTo>
                  <a:pt x="7144" y="150019"/>
                  <a:pt x="13811" y="156686"/>
                  <a:pt x="22384" y="156686"/>
                </a:cubicBezTo>
                <a:lnTo>
                  <a:pt x="141446" y="156686"/>
                </a:lnTo>
                <a:cubicBezTo>
                  <a:pt x="150019" y="156686"/>
                  <a:pt x="156686" y="150019"/>
                  <a:pt x="156686" y="141446"/>
                </a:cubicBezTo>
                <a:lnTo>
                  <a:pt x="156686" y="22384"/>
                </a:lnTo>
                <a:cubicBezTo>
                  <a:pt x="156686" y="13811"/>
                  <a:pt x="150019" y="7144"/>
                  <a:pt x="141446" y="7144"/>
                </a:cubicBezTo>
                <a:close/>
                <a:moveTo>
                  <a:pt x="51911" y="133826"/>
                </a:moveTo>
                <a:lnTo>
                  <a:pt x="29051" y="133826"/>
                </a:lnTo>
                <a:lnTo>
                  <a:pt x="29051" y="66199"/>
                </a:lnTo>
                <a:lnTo>
                  <a:pt x="51911" y="66199"/>
                </a:lnTo>
                <a:lnTo>
                  <a:pt x="51911" y="133826"/>
                </a:lnTo>
                <a:close/>
                <a:moveTo>
                  <a:pt x="40481" y="54769"/>
                </a:moveTo>
                <a:cubicBezTo>
                  <a:pt x="32861" y="54769"/>
                  <a:pt x="27146" y="49054"/>
                  <a:pt x="27146" y="41434"/>
                </a:cubicBezTo>
                <a:cubicBezTo>
                  <a:pt x="27146" y="33814"/>
                  <a:pt x="32861" y="28099"/>
                  <a:pt x="40481" y="28099"/>
                </a:cubicBezTo>
                <a:cubicBezTo>
                  <a:pt x="48101" y="28099"/>
                  <a:pt x="53816" y="33814"/>
                  <a:pt x="53816" y="41434"/>
                </a:cubicBezTo>
                <a:cubicBezTo>
                  <a:pt x="54769" y="48101"/>
                  <a:pt x="48101" y="54769"/>
                  <a:pt x="40481" y="54769"/>
                </a:cubicBezTo>
                <a:close/>
                <a:moveTo>
                  <a:pt x="133826" y="133826"/>
                </a:moveTo>
                <a:lnTo>
                  <a:pt x="110966" y="133826"/>
                </a:lnTo>
                <a:lnTo>
                  <a:pt x="110966" y="93821"/>
                </a:lnTo>
                <a:cubicBezTo>
                  <a:pt x="110966" y="88106"/>
                  <a:pt x="106204" y="82391"/>
                  <a:pt x="99536" y="82391"/>
                </a:cubicBezTo>
                <a:cubicBezTo>
                  <a:pt x="92869" y="82391"/>
                  <a:pt x="88106" y="87154"/>
                  <a:pt x="88106" y="93821"/>
                </a:cubicBezTo>
                <a:lnTo>
                  <a:pt x="88106" y="133826"/>
                </a:lnTo>
                <a:lnTo>
                  <a:pt x="65246" y="133826"/>
                </a:lnTo>
                <a:lnTo>
                  <a:pt x="65246" y="66199"/>
                </a:lnTo>
                <a:lnTo>
                  <a:pt x="88106" y="66199"/>
                </a:lnTo>
                <a:lnTo>
                  <a:pt x="88106" y="74771"/>
                </a:lnTo>
                <a:cubicBezTo>
                  <a:pt x="91916" y="69056"/>
                  <a:pt x="100489" y="64294"/>
                  <a:pt x="107156" y="64294"/>
                </a:cubicBezTo>
                <a:cubicBezTo>
                  <a:pt x="121444" y="64294"/>
                  <a:pt x="132874" y="76676"/>
                  <a:pt x="132874" y="90011"/>
                </a:cubicBezTo>
                <a:lnTo>
                  <a:pt x="132874" y="133826"/>
                </a:lnTo>
                <a:lnTo>
                  <a:pt x="133826" y="133826"/>
                </a:lnTo>
                <a:close/>
              </a:path>
            </a:pathLst>
          </a:custGeom>
          <a:solidFill>
            <a:srgbClr val="010101"/>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1" descr=""/>
          <p:cNvPicPr/>
          <p:nvPr/>
        </p:nvPicPr>
        <p:blipFill>
          <a:blip r:embed="rId1"/>
          <a:stretch/>
        </p:blipFill>
        <p:spPr>
          <a:xfrm>
            <a:off x="533520" y="3382920"/>
            <a:ext cx="2904840" cy="6056280"/>
          </a:xfrm>
          <a:prstGeom prst="rect">
            <a:avLst/>
          </a:prstGeom>
          <a:ln w="0">
            <a:noFill/>
          </a:ln>
        </p:spPr>
      </p:pic>
      <p:pic>
        <p:nvPicPr>
          <p:cNvPr id="187" name="Picture 12" descr=""/>
          <p:cNvPicPr/>
          <p:nvPr/>
        </p:nvPicPr>
        <p:blipFill>
          <a:blip r:embed="rId2"/>
          <a:stretch/>
        </p:blipFill>
        <p:spPr>
          <a:xfrm>
            <a:off x="5353200" y="0"/>
            <a:ext cx="1504800" cy="9906120"/>
          </a:xfrm>
          <a:prstGeom prst="rect">
            <a:avLst/>
          </a:prstGeom>
          <a:ln w="0">
            <a:noFill/>
          </a:ln>
        </p:spPr>
      </p:pic>
      <p:sp>
        <p:nvSpPr>
          <p:cNvPr id="188" name="Freeform 15"/>
          <p:cNvSpPr/>
          <p:nvPr/>
        </p:nvSpPr>
        <p:spPr>
          <a:xfrm>
            <a:off x="596880" y="476280"/>
            <a:ext cx="2779560" cy="2365200"/>
          </a:xfrm>
          <a:custGeom>
            <a:avLst/>
            <a:gdLst/>
            <a:ahLst/>
            <a:rect l="l" t="t" r="r" b="b"/>
            <a:pathLst>
              <a:path w="2628571" h="2238095">
                <a:moveTo>
                  <a:pt x="0" y="0"/>
                </a:moveTo>
                <a:lnTo>
                  <a:pt x="2628571" y="0"/>
                </a:lnTo>
                <a:lnTo>
                  <a:pt x="2628571" y="2238095"/>
                </a:lnTo>
                <a:lnTo>
                  <a:pt x="0" y="2238095"/>
                </a:lnTo>
                <a:lnTo>
                  <a:pt x="0" y="0"/>
                </a:lnTo>
                <a:close/>
              </a:path>
            </a:pathLst>
          </a:custGeom>
          <a:noFill/>
          <a:ln w="38160">
            <a:solidFill>
              <a:srgbClr val="0d0d0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TextBox 16"/>
          <p:cNvSpPr/>
          <p:nvPr/>
        </p:nvSpPr>
        <p:spPr>
          <a:xfrm>
            <a:off x="533520" y="3051000"/>
            <a:ext cx="29048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100" spc="-1" strike="noStrike">
                <a:solidFill>
                  <a:srgbClr val="000000"/>
                </a:solidFill>
                <a:latin typeface="Poppins"/>
                <a:ea typeface="Poppins"/>
              </a:rPr>
              <a:t>ALDRICK AUSTIN</a:t>
            </a:r>
            <a:endParaRPr b="0" lang="en-US" sz="2100" spc="-1" strike="noStrike">
              <a:solidFill>
                <a:srgbClr val="000000"/>
              </a:solidFill>
              <a:latin typeface="Calibri"/>
            </a:endParaRPr>
          </a:p>
        </p:txBody>
      </p:sp>
      <p:grpSp>
        <p:nvGrpSpPr>
          <p:cNvPr id="190" name="Group 17"/>
          <p:cNvGrpSpPr/>
          <p:nvPr/>
        </p:nvGrpSpPr>
        <p:grpSpPr>
          <a:xfrm>
            <a:off x="533520" y="3384720"/>
            <a:ext cx="2904840" cy="317160"/>
            <a:chOff x="533520" y="3384720"/>
            <a:chExt cx="2904840" cy="317160"/>
          </a:xfrm>
        </p:grpSpPr>
        <p:sp>
          <p:nvSpPr>
            <p:cNvPr id="191" name="Rectangle 18"/>
            <p:cNvSpPr/>
            <p:nvPr/>
          </p:nvSpPr>
          <p:spPr>
            <a:xfrm>
              <a:off x="533520" y="3384720"/>
              <a:ext cx="2904840" cy="29196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2" name="TextBox 19"/>
            <p:cNvSpPr/>
            <p:nvPr/>
          </p:nvSpPr>
          <p:spPr>
            <a:xfrm>
              <a:off x="1084320" y="3409920"/>
              <a:ext cx="1803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Poppins"/>
                  <a:ea typeface="Poppins"/>
                </a:rPr>
                <a:t>ABOUT MY PROFILE</a:t>
              </a:r>
              <a:endParaRPr b="0" lang="en-US" sz="1300" spc="-1" strike="noStrike">
                <a:solidFill>
                  <a:srgbClr val="000000"/>
                </a:solidFill>
                <a:latin typeface="Calibri"/>
              </a:endParaRPr>
            </a:p>
          </p:txBody>
        </p:sp>
      </p:grpSp>
      <p:sp>
        <p:nvSpPr>
          <p:cNvPr id="193" name="Rectangle 21"/>
          <p:cNvSpPr/>
          <p:nvPr/>
        </p:nvSpPr>
        <p:spPr>
          <a:xfrm>
            <a:off x="533520" y="4718160"/>
            <a:ext cx="2904840" cy="2934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TextBox 22"/>
          <p:cNvSpPr/>
          <p:nvPr/>
        </p:nvSpPr>
        <p:spPr>
          <a:xfrm>
            <a:off x="1084320" y="4743360"/>
            <a:ext cx="1803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Poppins"/>
                <a:ea typeface="Poppins"/>
              </a:rPr>
              <a:t>INTEREST POINT</a:t>
            </a:r>
            <a:endParaRPr b="0" lang="en-US" sz="1300" spc="-1" strike="noStrike">
              <a:solidFill>
                <a:srgbClr val="000000"/>
              </a:solidFill>
              <a:latin typeface="Calibri"/>
            </a:endParaRPr>
          </a:p>
        </p:txBody>
      </p:sp>
      <p:grpSp>
        <p:nvGrpSpPr>
          <p:cNvPr id="195" name="Group 23"/>
          <p:cNvGrpSpPr/>
          <p:nvPr/>
        </p:nvGrpSpPr>
        <p:grpSpPr>
          <a:xfrm>
            <a:off x="533520" y="5843520"/>
            <a:ext cx="2904840" cy="317160"/>
            <a:chOff x="533520" y="5843520"/>
            <a:chExt cx="2904840" cy="317160"/>
          </a:xfrm>
        </p:grpSpPr>
        <p:sp>
          <p:nvSpPr>
            <p:cNvPr id="196" name="Rectangle 24"/>
            <p:cNvSpPr/>
            <p:nvPr/>
          </p:nvSpPr>
          <p:spPr>
            <a:xfrm>
              <a:off x="533520" y="5843520"/>
              <a:ext cx="2904840" cy="2941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7" name="TextBox 25"/>
            <p:cNvSpPr/>
            <p:nvPr/>
          </p:nvSpPr>
          <p:spPr>
            <a:xfrm>
              <a:off x="933480" y="5868720"/>
              <a:ext cx="21045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Poppins"/>
                  <a:ea typeface="Poppins"/>
                </a:rPr>
                <a:t>PROFESSIONAL SKILLS</a:t>
              </a:r>
              <a:endParaRPr b="0" lang="en-US" sz="1300" spc="-1" strike="noStrike">
                <a:solidFill>
                  <a:srgbClr val="000000"/>
                </a:solidFill>
                <a:latin typeface="Calibri"/>
              </a:endParaRPr>
            </a:p>
          </p:txBody>
        </p:sp>
      </p:grpSp>
      <p:grpSp>
        <p:nvGrpSpPr>
          <p:cNvPr id="198" name="Group 26"/>
          <p:cNvGrpSpPr/>
          <p:nvPr/>
        </p:nvGrpSpPr>
        <p:grpSpPr>
          <a:xfrm>
            <a:off x="533520" y="8253360"/>
            <a:ext cx="2904840" cy="317160"/>
            <a:chOff x="533520" y="8253360"/>
            <a:chExt cx="2904840" cy="317160"/>
          </a:xfrm>
        </p:grpSpPr>
        <p:sp>
          <p:nvSpPr>
            <p:cNvPr id="199" name="Rectangle 27"/>
            <p:cNvSpPr/>
            <p:nvPr/>
          </p:nvSpPr>
          <p:spPr>
            <a:xfrm>
              <a:off x="533520" y="8253360"/>
              <a:ext cx="2904840" cy="2941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0" name="TextBox 28"/>
            <p:cNvSpPr/>
            <p:nvPr/>
          </p:nvSpPr>
          <p:spPr>
            <a:xfrm>
              <a:off x="1084320" y="8278560"/>
              <a:ext cx="1803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300" spc="-1" strike="noStrike">
                  <a:solidFill>
                    <a:srgbClr val="ffffff"/>
                  </a:solidFill>
                  <a:latin typeface="Poppins"/>
                  <a:ea typeface="Poppins"/>
                </a:rPr>
                <a:t>CONTACT ME</a:t>
              </a:r>
              <a:endParaRPr b="0" lang="en-US" sz="1300" spc="-1" strike="noStrike">
                <a:solidFill>
                  <a:srgbClr val="000000"/>
                </a:solidFill>
                <a:latin typeface="Calibri"/>
              </a:endParaRPr>
            </a:p>
          </p:txBody>
        </p:sp>
      </p:grpSp>
      <p:sp>
        <p:nvSpPr>
          <p:cNvPr id="201" name="Rectangle 29"/>
          <p:cNvSpPr/>
          <p:nvPr/>
        </p:nvSpPr>
        <p:spPr>
          <a:xfrm>
            <a:off x="671400" y="3724200"/>
            <a:ext cx="2627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Sed Ut Perspiciatis Unde Omnis Iste Natus Error Sit Voluptatem Accusol Orem Unde Omnis Iste Unde Omnis Iste Natus Error Sit Voluptatem Accusol Orem Unde Omnis Iste Unde Omnis Iste Natus Error Sit Voluptate Accusol Orem Accusol</a:t>
            </a:r>
            <a:endParaRPr b="0" lang="en-US" sz="900" spc="-1" strike="noStrike">
              <a:solidFill>
                <a:srgbClr val="000000"/>
              </a:solidFill>
              <a:latin typeface="Calibri"/>
            </a:endParaRPr>
          </a:p>
        </p:txBody>
      </p:sp>
      <p:grpSp>
        <p:nvGrpSpPr>
          <p:cNvPr id="202" name="Group 30"/>
          <p:cNvGrpSpPr/>
          <p:nvPr/>
        </p:nvGrpSpPr>
        <p:grpSpPr>
          <a:xfrm>
            <a:off x="760320" y="5041800"/>
            <a:ext cx="1314720" cy="231120"/>
            <a:chOff x="760320" y="5041800"/>
            <a:chExt cx="1314720" cy="231120"/>
          </a:xfrm>
        </p:grpSpPr>
        <p:sp>
          <p:nvSpPr>
            <p:cNvPr id="203" name="Rectangle 31"/>
            <p:cNvSpPr/>
            <p:nvPr/>
          </p:nvSpPr>
          <p:spPr>
            <a:xfrm>
              <a:off x="867960" y="50418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 ttio </a:t>
              </a:r>
              <a:endParaRPr b="0" lang="en-US" sz="900" spc="-1" strike="noStrike">
                <a:solidFill>
                  <a:srgbClr val="000000"/>
                </a:solidFill>
                <a:latin typeface="Calibri"/>
              </a:endParaRPr>
            </a:p>
          </p:txBody>
        </p:sp>
        <p:sp>
          <p:nvSpPr>
            <p:cNvPr id="204" name="Donut 32"/>
            <p:cNvSpPr/>
            <p:nvPr/>
          </p:nvSpPr>
          <p:spPr>
            <a:xfrm>
              <a:off x="760320" y="5105880"/>
              <a:ext cx="88920" cy="8928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grpSp>
      <p:grpSp>
        <p:nvGrpSpPr>
          <p:cNvPr id="205" name="Group 33"/>
          <p:cNvGrpSpPr/>
          <p:nvPr/>
        </p:nvGrpSpPr>
        <p:grpSpPr>
          <a:xfrm>
            <a:off x="760320" y="5245200"/>
            <a:ext cx="1314720" cy="231120"/>
            <a:chOff x="760320" y="5245200"/>
            <a:chExt cx="1314720" cy="231120"/>
          </a:xfrm>
        </p:grpSpPr>
        <p:sp>
          <p:nvSpPr>
            <p:cNvPr id="206" name="Rectangle 34"/>
            <p:cNvSpPr/>
            <p:nvPr/>
          </p:nvSpPr>
          <p:spPr>
            <a:xfrm>
              <a:off x="867960" y="52452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a:t>
              </a:r>
              <a:endParaRPr b="0" lang="en-US" sz="900" spc="-1" strike="noStrike">
                <a:solidFill>
                  <a:srgbClr val="000000"/>
                </a:solidFill>
                <a:latin typeface="Calibri"/>
              </a:endParaRPr>
            </a:p>
          </p:txBody>
        </p:sp>
        <p:sp>
          <p:nvSpPr>
            <p:cNvPr id="207" name="Donut 35"/>
            <p:cNvSpPr/>
            <p:nvPr/>
          </p:nvSpPr>
          <p:spPr>
            <a:xfrm>
              <a:off x="760320" y="5309280"/>
              <a:ext cx="88920" cy="8928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grpSp>
      <p:grpSp>
        <p:nvGrpSpPr>
          <p:cNvPr id="208" name="Group 36"/>
          <p:cNvGrpSpPr/>
          <p:nvPr/>
        </p:nvGrpSpPr>
        <p:grpSpPr>
          <a:xfrm>
            <a:off x="760320" y="5475240"/>
            <a:ext cx="1314720" cy="231120"/>
            <a:chOff x="760320" y="5475240"/>
            <a:chExt cx="1314720" cy="231120"/>
          </a:xfrm>
        </p:grpSpPr>
        <p:sp>
          <p:nvSpPr>
            <p:cNvPr id="209" name="Rectangle 37"/>
            <p:cNvSpPr/>
            <p:nvPr/>
          </p:nvSpPr>
          <p:spPr>
            <a:xfrm>
              <a:off x="867960" y="547524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sp>
          <p:nvSpPr>
            <p:cNvPr id="210" name="Donut 38"/>
            <p:cNvSpPr/>
            <p:nvPr/>
          </p:nvSpPr>
          <p:spPr>
            <a:xfrm>
              <a:off x="760320" y="5539320"/>
              <a:ext cx="88920" cy="8928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Calibri"/>
              </a:endParaRPr>
            </a:p>
          </p:txBody>
        </p:sp>
      </p:grpSp>
      <p:grpSp>
        <p:nvGrpSpPr>
          <p:cNvPr id="211" name="Group 39"/>
          <p:cNvGrpSpPr/>
          <p:nvPr/>
        </p:nvGrpSpPr>
        <p:grpSpPr>
          <a:xfrm>
            <a:off x="2081160" y="5052960"/>
            <a:ext cx="1314360" cy="231120"/>
            <a:chOff x="2081160" y="5052960"/>
            <a:chExt cx="1314360" cy="231120"/>
          </a:xfrm>
        </p:grpSpPr>
        <p:sp>
          <p:nvSpPr>
            <p:cNvPr id="212" name="Rectangle 40"/>
            <p:cNvSpPr/>
            <p:nvPr/>
          </p:nvSpPr>
          <p:spPr>
            <a:xfrm>
              <a:off x="2188800" y="5052960"/>
              <a:ext cx="1206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 ttio </a:t>
              </a:r>
              <a:endParaRPr b="0" lang="en-US" sz="900" spc="-1" strike="noStrike">
                <a:solidFill>
                  <a:srgbClr val="000000"/>
                </a:solidFill>
                <a:latin typeface="Calibri"/>
              </a:endParaRPr>
            </a:p>
          </p:txBody>
        </p:sp>
        <p:sp>
          <p:nvSpPr>
            <p:cNvPr id="213" name="Donut 41"/>
            <p:cNvSpPr/>
            <p:nvPr/>
          </p:nvSpPr>
          <p:spPr>
            <a:xfrm>
              <a:off x="2081160" y="5116680"/>
              <a:ext cx="88560" cy="8856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Calibri"/>
              </a:endParaRPr>
            </a:p>
          </p:txBody>
        </p:sp>
      </p:grpSp>
      <p:grpSp>
        <p:nvGrpSpPr>
          <p:cNvPr id="214" name="Group 42"/>
          <p:cNvGrpSpPr/>
          <p:nvPr/>
        </p:nvGrpSpPr>
        <p:grpSpPr>
          <a:xfrm>
            <a:off x="2081160" y="5256360"/>
            <a:ext cx="1314360" cy="231120"/>
            <a:chOff x="2081160" y="5256360"/>
            <a:chExt cx="1314360" cy="231120"/>
          </a:xfrm>
        </p:grpSpPr>
        <p:sp>
          <p:nvSpPr>
            <p:cNvPr id="215" name="Rectangle 43"/>
            <p:cNvSpPr/>
            <p:nvPr/>
          </p:nvSpPr>
          <p:spPr>
            <a:xfrm>
              <a:off x="2188800" y="5256360"/>
              <a:ext cx="1206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a:t>
              </a:r>
              <a:endParaRPr b="0" lang="en-US" sz="900" spc="-1" strike="noStrike">
                <a:solidFill>
                  <a:srgbClr val="000000"/>
                </a:solidFill>
                <a:latin typeface="Calibri"/>
              </a:endParaRPr>
            </a:p>
          </p:txBody>
        </p:sp>
        <p:sp>
          <p:nvSpPr>
            <p:cNvPr id="216" name="Donut 44"/>
            <p:cNvSpPr/>
            <p:nvPr/>
          </p:nvSpPr>
          <p:spPr>
            <a:xfrm>
              <a:off x="2081160" y="5319720"/>
              <a:ext cx="88560" cy="8856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Calibri"/>
              </a:endParaRPr>
            </a:p>
          </p:txBody>
        </p:sp>
      </p:grpSp>
      <p:grpSp>
        <p:nvGrpSpPr>
          <p:cNvPr id="217" name="Group 45"/>
          <p:cNvGrpSpPr/>
          <p:nvPr/>
        </p:nvGrpSpPr>
        <p:grpSpPr>
          <a:xfrm>
            <a:off x="2081160" y="5486400"/>
            <a:ext cx="1314360" cy="231120"/>
            <a:chOff x="2081160" y="5486400"/>
            <a:chExt cx="1314360" cy="231120"/>
          </a:xfrm>
        </p:grpSpPr>
        <p:sp>
          <p:nvSpPr>
            <p:cNvPr id="218" name="Rectangle 46"/>
            <p:cNvSpPr/>
            <p:nvPr/>
          </p:nvSpPr>
          <p:spPr>
            <a:xfrm>
              <a:off x="2188800" y="5486400"/>
              <a:ext cx="1206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sp>
          <p:nvSpPr>
            <p:cNvPr id="219" name="Donut 47"/>
            <p:cNvSpPr/>
            <p:nvPr/>
          </p:nvSpPr>
          <p:spPr>
            <a:xfrm>
              <a:off x="2081160" y="5549760"/>
              <a:ext cx="88560" cy="88560"/>
            </a:xfrm>
            <a:custGeom>
              <a:avLst/>
              <a:gdLst/>
              <a:ahLst/>
              <a:rect l="l" t="t" r="r" b="b"/>
              <a:pathLst>
                <a:path w="88900" h="88900">
                  <a:moveTo>
                    <a:pt x="0" y="44450"/>
                  </a:moveTo>
                  <a:cubicBezTo>
                    <a:pt x="0" y="19901"/>
                    <a:pt x="19901" y="0"/>
                    <a:pt x="44450" y="0"/>
                  </a:cubicBezTo>
                  <a:cubicBezTo>
                    <a:pt x="68999" y="0"/>
                    <a:pt x="88900" y="19901"/>
                    <a:pt x="88900" y="44450"/>
                  </a:cubicBezTo>
                  <a:cubicBezTo>
                    <a:pt x="88900" y="68999"/>
                    <a:pt x="68999" y="88900"/>
                    <a:pt x="44450" y="88900"/>
                  </a:cubicBezTo>
                  <a:cubicBezTo>
                    <a:pt x="19901" y="88900"/>
                    <a:pt x="0" y="68999"/>
                    <a:pt x="0" y="44450"/>
                  </a:cubicBezTo>
                  <a:close/>
                  <a:moveTo>
                    <a:pt x="4919" y="44450"/>
                  </a:moveTo>
                  <a:cubicBezTo>
                    <a:pt x="4919" y="66282"/>
                    <a:pt x="22618" y="83981"/>
                    <a:pt x="44450" y="83981"/>
                  </a:cubicBezTo>
                  <a:cubicBezTo>
                    <a:pt x="66282" y="83981"/>
                    <a:pt x="83981" y="66282"/>
                    <a:pt x="83981" y="44450"/>
                  </a:cubicBezTo>
                  <a:cubicBezTo>
                    <a:pt x="83981" y="22618"/>
                    <a:pt x="66282" y="4919"/>
                    <a:pt x="44450" y="4919"/>
                  </a:cubicBezTo>
                  <a:cubicBezTo>
                    <a:pt x="22618" y="4919"/>
                    <a:pt x="4919" y="22618"/>
                    <a:pt x="4919" y="44450"/>
                  </a:cubicBezTo>
                  <a:close/>
                </a:path>
              </a:pathLst>
            </a:custGeom>
            <a:solidFill>
              <a:srgbClr val="0d0d0d"/>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Calibri"/>
              </a:endParaRPr>
            </a:p>
          </p:txBody>
        </p:sp>
      </p:grpSp>
      <p:grpSp>
        <p:nvGrpSpPr>
          <p:cNvPr id="220" name="Group 48"/>
          <p:cNvGrpSpPr/>
          <p:nvPr/>
        </p:nvGrpSpPr>
        <p:grpSpPr>
          <a:xfrm>
            <a:off x="671400" y="6265800"/>
            <a:ext cx="2524320" cy="258840"/>
            <a:chOff x="671400" y="6265800"/>
            <a:chExt cx="2524320" cy="258840"/>
          </a:xfrm>
        </p:grpSpPr>
        <p:sp>
          <p:nvSpPr>
            <p:cNvPr id="221" name="Rectangle 49"/>
            <p:cNvSpPr/>
            <p:nvPr/>
          </p:nvSpPr>
          <p:spPr>
            <a:xfrm>
              <a:off x="671400" y="62658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0d0d0d"/>
                  </a:solidFill>
                  <a:latin typeface="Poppins"/>
                  <a:ea typeface="Poppins"/>
                </a:rPr>
                <a:t>Acounting</a:t>
              </a:r>
              <a:endParaRPr b="0" lang="en-US" sz="900" spc="-1" strike="noStrike">
                <a:solidFill>
                  <a:srgbClr val="000000"/>
                </a:solidFill>
                <a:latin typeface="Calibri"/>
              </a:endParaRPr>
            </a:p>
          </p:txBody>
        </p:sp>
        <p:grpSp>
          <p:nvGrpSpPr>
            <p:cNvPr id="222" name="Group 50"/>
            <p:cNvGrpSpPr/>
            <p:nvPr/>
          </p:nvGrpSpPr>
          <p:grpSpPr>
            <a:xfrm>
              <a:off x="759600" y="6478200"/>
              <a:ext cx="2436120" cy="46440"/>
              <a:chOff x="759600" y="6478200"/>
              <a:chExt cx="2436120" cy="46440"/>
            </a:xfrm>
          </p:grpSpPr>
          <p:sp>
            <p:nvSpPr>
              <p:cNvPr id="223" name="Rounded Rectangle 51"/>
              <p:cNvSpPr/>
              <p:nvPr/>
            </p:nvSpPr>
            <p:spPr>
              <a:xfrm>
                <a:off x="785520" y="6478200"/>
                <a:ext cx="2410200" cy="45720"/>
              </a:xfrm>
              <a:prstGeom prst="roundRect">
                <a:avLst>
                  <a:gd name="adj" fmla="val 50000"/>
                </a:avLst>
              </a:pr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Rounded Rectangle 52"/>
              <p:cNvSpPr/>
              <p:nvPr/>
            </p:nvSpPr>
            <p:spPr>
              <a:xfrm>
                <a:off x="759600" y="6478920"/>
                <a:ext cx="1510200" cy="45720"/>
              </a:xfrm>
              <a:prstGeom prst="roundRect">
                <a:avLst>
                  <a:gd name="adj" fmla="val 50000"/>
                </a:avLst>
              </a:prstGeom>
              <a:solidFill>
                <a:srgbClr val="0d0d0d"/>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nvGrpSpPr>
          <p:cNvPr id="225" name="Group 53"/>
          <p:cNvGrpSpPr/>
          <p:nvPr/>
        </p:nvGrpSpPr>
        <p:grpSpPr>
          <a:xfrm>
            <a:off x="671400" y="6629400"/>
            <a:ext cx="2524320" cy="258840"/>
            <a:chOff x="671400" y="6629400"/>
            <a:chExt cx="2524320" cy="258840"/>
          </a:xfrm>
        </p:grpSpPr>
        <p:sp>
          <p:nvSpPr>
            <p:cNvPr id="226" name="Rectangle 54"/>
            <p:cNvSpPr/>
            <p:nvPr/>
          </p:nvSpPr>
          <p:spPr>
            <a:xfrm>
              <a:off x="671400" y="66294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grpSp>
          <p:nvGrpSpPr>
            <p:cNvPr id="227" name="Group 55"/>
            <p:cNvGrpSpPr/>
            <p:nvPr/>
          </p:nvGrpSpPr>
          <p:grpSpPr>
            <a:xfrm>
              <a:off x="759600" y="6841800"/>
              <a:ext cx="2436120" cy="46440"/>
              <a:chOff x="759600" y="6841800"/>
              <a:chExt cx="2436120" cy="46440"/>
            </a:xfrm>
          </p:grpSpPr>
          <p:sp>
            <p:nvSpPr>
              <p:cNvPr id="228" name="Rounded Rectangle 56"/>
              <p:cNvSpPr/>
              <p:nvPr/>
            </p:nvSpPr>
            <p:spPr>
              <a:xfrm>
                <a:off x="785520" y="6841800"/>
                <a:ext cx="2410200" cy="45720"/>
              </a:xfrm>
              <a:prstGeom prst="roundRect">
                <a:avLst>
                  <a:gd name="adj" fmla="val 50000"/>
                </a:avLst>
              </a:pr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9" name="Rounded Rectangle 57"/>
              <p:cNvSpPr/>
              <p:nvPr/>
            </p:nvSpPr>
            <p:spPr>
              <a:xfrm>
                <a:off x="759600" y="6842520"/>
                <a:ext cx="1958040" cy="45720"/>
              </a:xfrm>
              <a:prstGeom prst="roundRect">
                <a:avLst>
                  <a:gd name="adj" fmla="val 50000"/>
                </a:avLst>
              </a:prstGeom>
              <a:solidFill>
                <a:srgbClr val="0d0d0d"/>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nvGrpSpPr>
          <p:cNvPr id="230" name="Group 58"/>
          <p:cNvGrpSpPr/>
          <p:nvPr/>
        </p:nvGrpSpPr>
        <p:grpSpPr>
          <a:xfrm>
            <a:off x="671400" y="6991200"/>
            <a:ext cx="2524320" cy="258840"/>
            <a:chOff x="671400" y="6991200"/>
            <a:chExt cx="2524320" cy="258840"/>
          </a:xfrm>
        </p:grpSpPr>
        <p:sp>
          <p:nvSpPr>
            <p:cNvPr id="231" name="Rectangle 59"/>
            <p:cNvSpPr/>
            <p:nvPr/>
          </p:nvSpPr>
          <p:spPr>
            <a:xfrm>
              <a:off x="671400" y="699120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grpSp>
          <p:nvGrpSpPr>
            <p:cNvPr id="232" name="Group 60"/>
            <p:cNvGrpSpPr/>
            <p:nvPr/>
          </p:nvGrpSpPr>
          <p:grpSpPr>
            <a:xfrm>
              <a:off x="759600" y="7203600"/>
              <a:ext cx="2436120" cy="46440"/>
              <a:chOff x="759600" y="7203600"/>
              <a:chExt cx="2436120" cy="46440"/>
            </a:xfrm>
          </p:grpSpPr>
          <p:sp>
            <p:nvSpPr>
              <p:cNvPr id="233" name="Rounded Rectangle 61"/>
              <p:cNvSpPr/>
              <p:nvPr/>
            </p:nvSpPr>
            <p:spPr>
              <a:xfrm>
                <a:off x="785520" y="7203600"/>
                <a:ext cx="2410200" cy="45720"/>
              </a:xfrm>
              <a:prstGeom prst="roundRect">
                <a:avLst>
                  <a:gd name="adj" fmla="val 50000"/>
                </a:avLst>
              </a:pr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4" name="Rounded Rectangle 62"/>
              <p:cNvSpPr/>
              <p:nvPr/>
            </p:nvSpPr>
            <p:spPr>
              <a:xfrm>
                <a:off x="759600" y="7204320"/>
                <a:ext cx="1510200" cy="45720"/>
              </a:xfrm>
              <a:prstGeom prst="roundRect">
                <a:avLst>
                  <a:gd name="adj" fmla="val 50000"/>
                </a:avLst>
              </a:prstGeom>
              <a:solidFill>
                <a:srgbClr val="0d0d0d"/>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nvGrpSpPr>
          <p:cNvPr id="235" name="Group 63"/>
          <p:cNvGrpSpPr/>
          <p:nvPr/>
        </p:nvGrpSpPr>
        <p:grpSpPr>
          <a:xfrm>
            <a:off x="671400" y="7378560"/>
            <a:ext cx="2524320" cy="258840"/>
            <a:chOff x="671400" y="7378560"/>
            <a:chExt cx="2524320" cy="258840"/>
          </a:xfrm>
        </p:grpSpPr>
        <p:sp>
          <p:nvSpPr>
            <p:cNvPr id="236" name="Rectangle 64"/>
            <p:cNvSpPr/>
            <p:nvPr/>
          </p:nvSpPr>
          <p:spPr>
            <a:xfrm>
              <a:off x="671400" y="737856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grpSp>
          <p:nvGrpSpPr>
            <p:cNvPr id="237" name="Group 65"/>
            <p:cNvGrpSpPr/>
            <p:nvPr/>
          </p:nvGrpSpPr>
          <p:grpSpPr>
            <a:xfrm>
              <a:off x="759600" y="7590960"/>
              <a:ext cx="2436120" cy="46440"/>
              <a:chOff x="759600" y="7590960"/>
              <a:chExt cx="2436120" cy="46440"/>
            </a:xfrm>
          </p:grpSpPr>
          <p:sp>
            <p:nvSpPr>
              <p:cNvPr id="238" name="Rounded Rectangle 66"/>
              <p:cNvSpPr/>
              <p:nvPr/>
            </p:nvSpPr>
            <p:spPr>
              <a:xfrm>
                <a:off x="785520" y="7590960"/>
                <a:ext cx="2410200" cy="45720"/>
              </a:xfrm>
              <a:prstGeom prst="roundRect">
                <a:avLst>
                  <a:gd name="adj" fmla="val 50000"/>
                </a:avLst>
              </a:prstGeom>
              <a:solidFill>
                <a:srgbClr val="ffffff"/>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9" name="Rounded Rectangle 67"/>
              <p:cNvSpPr/>
              <p:nvPr/>
            </p:nvSpPr>
            <p:spPr>
              <a:xfrm>
                <a:off x="759600" y="7591680"/>
                <a:ext cx="1008360" cy="45720"/>
              </a:xfrm>
              <a:prstGeom prst="roundRect">
                <a:avLst>
                  <a:gd name="adj" fmla="val 50000"/>
                </a:avLst>
              </a:prstGeom>
              <a:solidFill>
                <a:srgbClr val="0d0d0d"/>
              </a:solidFill>
              <a:ln w="0">
                <a:noFill/>
              </a:ln>
            </p:spPr>
            <p:style>
              <a:lnRef idx="0"/>
              <a:fillRef idx="0"/>
              <a:effectRef idx="0"/>
              <a:fontRef idx="minor"/>
            </p:style>
            <p:txBody>
              <a:bodyPr lIns="90000" rIns="90000" tIns="-14040" bIns="-140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grpSp>
        <p:nvGrpSpPr>
          <p:cNvPr id="240" name="Group 68"/>
          <p:cNvGrpSpPr/>
          <p:nvPr/>
        </p:nvGrpSpPr>
        <p:grpSpPr>
          <a:xfrm>
            <a:off x="671400" y="7736040"/>
            <a:ext cx="2524320" cy="260280"/>
            <a:chOff x="671400" y="7736040"/>
            <a:chExt cx="2524320" cy="260280"/>
          </a:xfrm>
        </p:grpSpPr>
        <p:sp>
          <p:nvSpPr>
            <p:cNvPr id="241" name="Rectangle 69"/>
            <p:cNvSpPr/>
            <p:nvPr/>
          </p:nvSpPr>
          <p:spPr>
            <a:xfrm>
              <a:off x="671400" y="7736040"/>
              <a:ext cx="120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Lorem ipsum</a:t>
              </a:r>
              <a:endParaRPr b="0" lang="en-US" sz="900" spc="-1" strike="noStrike">
                <a:solidFill>
                  <a:srgbClr val="000000"/>
                </a:solidFill>
                <a:latin typeface="Calibri"/>
              </a:endParaRPr>
            </a:p>
          </p:txBody>
        </p:sp>
        <p:grpSp>
          <p:nvGrpSpPr>
            <p:cNvPr id="242" name="Group 70"/>
            <p:cNvGrpSpPr/>
            <p:nvPr/>
          </p:nvGrpSpPr>
          <p:grpSpPr>
            <a:xfrm>
              <a:off x="759600" y="7949520"/>
              <a:ext cx="2436120" cy="46800"/>
              <a:chOff x="759600" y="7949520"/>
              <a:chExt cx="2436120" cy="46800"/>
            </a:xfrm>
          </p:grpSpPr>
          <p:sp>
            <p:nvSpPr>
              <p:cNvPr id="243" name="Rounded Rectangle 71"/>
              <p:cNvSpPr/>
              <p:nvPr/>
            </p:nvSpPr>
            <p:spPr>
              <a:xfrm>
                <a:off x="785520" y="7949520"/>
                <a:ext cx="2410200" cy="46080"/>
              </a:xfrm>
              <a:prstGeom prst="roundRect">
                <a:avLst>
                  <a:gd name="adj" fmla="val 50000"/>
                </a:avLst>
              </a:prstGeom>
              <a:solidFill>
                <a:srgbClr val="ffffff"/>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ounded Rectangle 72"/>
              <p:cNvSpPr/>
              <p:nvPr/>
            </p:nvSpPr>
            <p:spPr>
              <a:xfrm>
                <a:off x="759600" y="7950240"/>
                <a:ext cx="1770840" cy="46080"/>
              </a:xfrm>
              <a:prstGeom prst="roundRect">
                <a:avLst>
                  <a:gd name="adj" fmla="val 50000"/>
                </a:avLst>
              </a:prstGeom>
              <a:solidFill>
                <a:srgbClr val="0d0d0d"/>
              </a:solidFill>
              <a:ln w="0">
                <a:noFill/>
              </a:ln>
            </p:spPr>
            <p:style>
              <a:lnRef idx="0"/>
              <a:fillRef idx="0"/>
              <a:effectRef idx="0"/>
              <a:fontRef idx="minor"/>
            </p:style>
            <p:txBody>
              <a:bodyPr lIns="90000" rIns="90000"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245" name="Rectangle 73"/>
          <p:cNvSpPr/>
          <p:nvPr/>
        </p:nvSpPr>
        <p:spPr>
          <a:xfrm>
            <a:off x="849240" y="8672400"/>
            <a:ext cx="87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0827465758</a:t>
            </a:r>
            <a:endParaRPr b="0" lang="en-US" sz="900" spc="-1" strike="noStrike">
              <a:solidFill>
                <a:srgbClr val="000000"/>
              </a:solidFill>
              <a:latin typeface="Calibri"/>
            </a:endParaRPr>
          </a:p>
        </p:txBody>
      </p:sp>
      <p:sp>
        <p:nvSpPr>
          <p:cNvPr id="246" name="Rectangle 74"/>
          <p:cNvSpPr/>
          <p:nvPr/>
        </p:nvSpPr>
        <p:spPr>
          <a:xfrm>
            <a:off x="868320" y="9004320"/>
            <a:ext cx="95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Aldrrckauss_ </a:t>
            </a:r>
            <a:endParaRPr b="0" lang="en-US" sz="900" spc="-1" strike="noStrike">
              <a:solidFill>
                <a:srgbClr val="000000"/>
              </a:solidFill>
              <a:latin typeface="Calibri"/>
            </a:endParaRPr>
          </a:p>
        </p:txBody>
      </p:sp>
      <p:sp>
        <p:nvSpPr>
          <p:cNvPr id="247" name="Rectangle 75"/>
          <p:cNvSpPr/>
          <p:nvPr/>
        </p:nvSpPr>
        <p:spPr>
          <a:xfrm>
            <a:off x="2001960" y="8658360"/>
            <a:ext cx="1392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Aldric_kaustinjefrey </a:t>
            </a:r>
            <a:endParaRPr b="0" lang="en-US" sz="900" spc="-1" strike="noStrike">
              <a:solidFill>
                <a:srgbClr val="000000"/>
              </a:solidFill>
              <a:latin typeface="Calibri"/>
            </a:endParaRPr>
          </a:p>
        </p:txBody>
      </p:sp>
      <p:sp>
        <p:nvSpPr>
          <p:cNvPr id="248" name="Rectangle 76"/>
          <p:cNvSpPr/>
          <p:nvPr/>
        </p:nvSpPr>
        <p:spPr>
          <a:xfrm>
            <a:off x="2036880" y="9005760"/>
            <a:ext cx="1322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d0d0d"/>
                </a:solidFill>
                <a:latin typeface="Poppins"/>
                <a:ea typeface="Poppins"/>
              </a:rPr>
              <a:t>Aldrick.austnjefrey </a:t>
            </a:r>
            <a:endParaRPr b="0" lang="en-US" sz="900" spc="-1" strike="noStrike">
              <a:solidFill>
                <a:srgbClr val="000000"/>
              </a:solidFill>
              <a:latin typeface="Calibri"/>
            </a:endParaRPr>
          </a:p>
        </p:txBody>
      </p:sp>
      <p:sp>
        <p:nvSpPr>
          <p:cNvPr id="249" name="TextBox 78"/>
          <p:cNvSpPr/>
          <p:nvPr/>
        </p:nvSpPr>
        <p:spPr>
          <a:xfrm>
            <a:off x="3589560" y="476280"/>
            <a:ext cx="19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000000"/>
                </a:solidFill>
                <a:latin typeface="Poppins"/>
                <a:ea typeface="Poppins"/>
              </a:rPr>
              <a:t>DEAR  MR.LONG</a:t>
            </a:r>
            <a:endParaRPr b="0" lang="en-US" sz="1800" spc="-1" strike="noStrike">
              <a:solidFill>
                <a:srgbClr val="000000"/>
              </a:solidFill>
              <a:latin typeface="Calibri"/>
            </a:endParaRPr>
          </a:p>
        </p:txBody>
      </p:sp>
      <p:sp>
        <p:nvSpPr>
          <p:cNvPr id="250" name="TextBox 79"/>
          <p:cNvSpPr/>
          <p:nvPr/>
        </p:nvSpPr>
        <p:spPr>
          <a:xfrm>
            <a:off x="3745080" y="777960"/>
            <a:ext cx="224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d-ID" sz="1200" spc="-1" strike="noStrike">
                <a:solidFill>
                  <a:srgbClr val="a6a6a6"/>
                </a:solidFill>
                <a:latin typeface="Poppins"/>
                <a:ea typeface="Poppins"/>
              </a:rPr>
              <a:t>Manager of Dorai Corporation</a:t>
            </a:r>
            <a:endParaRPr b="0" lang="en-US" sz="1200" spc="-1" strike="noStrike">
              <a:solidFill>
                <a:srgbClr val="000000"/>
              </a:solidFill>
              <a:latin typeface="Calibri"/>
            </a:endParaRPr>
          </a:p>
        </p:txBody>
      </p:sp>
      <p:sp>
        <p:nvSpPr>
          <p:cNvPr id="251" name="Rectangle 80"/>
          <p:cNvSpPr/>
          <p:nvPr/>
        </p:nvSpPr>
        <p:spPr>
          <a:xfrm>
            <a:off x="3606840" y="1596960"/>
            <a:ext cx="2909880" cy="2149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22a35"/>
                </a:solidFill>
                <a:latin typeface="Poppins"/>
                <a:ea typeface="Poppins"/>
              </a:rPr>
              <a:t>Sed Ut Perspiciatis Unde Omnis Iste Natus Error Sit Voluptatem Accusol Oremq. Unde Omnis Iste Natus Error Sit VoluptatemSed Ut Perspiciatis Unde Unde Omnis Iste Sed Ut Perspiciatis Unde Omnis Iste Natus Error Sit Voluptatem Accusol Oremq. Unde Omnis Omnis Iste Natus Error Sit VoluptatemSed Ut Perspiciatis Unde Unde Omnis Iste Sed Ut Perspiciatis Unde Omnis Iste Unde Unde Omnis Iste Sed Ut Perspiciatis Und Omnis Iste Natus Error Sit Voluptatem</a:t>
            </a:r>
            <a:endParaRPr b="0" lang="en-US" sz="900" spc="-1" strike="noStrike">
              <a:solidFill>
                <a:srgbClr val="000000"/>
              </a:solidFill>
              <a:latin typeface="Calibri"/>
            </a:endParaRPr>
          </a:p>
        </p:txBody>
      </p:sp>
      <p:sp>
        <p:nvSpPr>
          <p:cNvPr id="252" name="TextBox 82"/>
          <p:cNvSpPr/>
          <p:nvPr/>
        </p:nvSpPr>
        <p:spPr>
          <a:xfrm>
            <a:off x="3730320" y="6888240"/>
            <a:ext cx="96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000" spc="-1" strike="noStrike">
                <a:solidFill>
                  <a:srgbClr val="0d0d0d"/>
                </a:solidFill>
                <a:latin typeface="Montserrat Medium"/>
              </a:rPr>
              <a:t>Best Regards</a:t>
            </a:r>
            <a:endParaRPr b="0" lang="en-US" sz="1000" spc="-1" strike="noStrike">
              <a:solidFill>
                <a:srgbClr val="000000"/>
              </a:solidFill>
              <a:latin typeface="Calibri"/>
            </a:endParaRPr>
          </a:p>
        </p:txBody>
      </p:sp>
      <p:sp>
        <p:nvSpPr>
          <p:cNvPr id="253" name="Rectangle 84"/>
          <p:cNvSpPr/>
          <p:nvPr/>
        </p:nvSpPr>
        <p:spPr>
          <a:xfrm>
            <a:off x="3614760" y="4021200"/>
            <a:ext cx="2909880" cy="2149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22a35"/>
                </a:solidFill>
                <a:latin typeface="Poppins"/>
                <a:ea typeface="Poppins"/>
              </a:rPr>
              <a:t>Sed Ut Perspiciatis Unde Omnis Iste Natus Error Sit Voluptatem Accusol Oremq. Unde Omnis Iste Natus Error Sit VoluptatemSed Ut Perspiciatis Unde Unde Omnis Iste Sed Ut Perspiciatis Unde Omnis Iste Natus Error Sit Voluptatem Accusol Oremq. Unde Omnis Omnis Iste Natus Error Sit VoluptatemSed Ut Perspiciatis Unde Unde Omnis Iste Sed Ut Perspiciatis Unde Omnis Iste Unde Unde Omnis Iste Sed Ut Perspiciatis Und Omnis Iste Natus Error Sit Voluptatem Accusol Oremq.</a:t>
            </a:r>
            <a:endParaRPr b="0" lang="en-US" sz="900" spc="-1" strike="noStrike">
              <a:solidFill>
                <a:srgbClr val="000000"/>
              </a:solidFill>
              <a:latin typeface="Calibri"/>
            </a:endParaRPr>
          </a:p>
        </p:txBody>
      </p:sp>
      <p:sp>
        <p:nvSpPr>
          <p:cNvPr id="254" name="TextBox 85"/>
          <p:cNvSpPr/>
          <p:nvPr/>
        </p:nvSpPr>
        <p:spPr>
          <a:xfrm>
            <a:off x="3665520" y="7148520"/>
            <a:ext cx="2905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100" spc="-1" strike="noStrike">
                <a:solidFill>
                  <a:srgbClr val="000000"/>
                </a:solidFill>
                <a:latin typeface="Poppins"/>
                <a:ea typeface="Poppins"/>
              </a:rPr>
              <a:t>ALDRICK AUSTIN</a:t>
            </a:r>
            <a:endParaRPr b="0" lang="en-US" sz="2100" spc="-1" strike="noStrike">
              <a:solidFill>
                <a:srgbClr val="000000"/>
              </a:solidFill>
              <a:latin typeface="Calibri"/>
            </a:endParaRPr>
          </a:p>
        </p:txBody>
      </p:sp>
      <p:grpSp>
        <p:nvGrpSpPr>
          <p:cNvPr id="255" name="Group 77"/>
          <p:cNvGrpSpPr/>
          <p:nvPr/>
        </p:nvGrpSpPr>
        <p:grpSpPr>
          <a:xfrm>
            <a:off x="676440" y="8683560"/>
            <a:ext cx="161640" cy="162000"/>
            <a:chOff x="676440" y="8683560"/>
            <a:chExt cx="161640" cy="162000"/>
          </a:xfrm>
        </p:grpSpPr>
        <p:sp>
          <p:nvSpPr>
            <p:cNvPr id="256" name="Freeform: Shape 81"/>
            <p:cNvSpPr/>
            <p:nvPr/>
          </p:nvSpPr>
          <p:spPr>
            <a:xfrm>
              <a:off x="676440" y="8683560"/>
              <a:ext cx="161640" cy="162000"/>
            </a:xfrm>
            <a:custGeom>
              <a:avLst/>
              <a:gdLst/>
              <a:ahLst/>
              <a:rect l="l" t="t" r="r" b="b"/>
              <a:pathLst>
                <a:path w="161925" h="161925">
                  <a:moveTo>
                    <a:pt x="145256" y="40585"/>
                  </a:moveTo>
                  <a:cubicBezTo>
                    <a:pt x="127159" y="14868"/>
                    <a:pt x="102394" y="3438"/>
                    <a:pt x="71914" y="8200"/>
                  </a:cubicBezTo>
                  <a:cubicBezTo>
                    <a:pt x="47149" y="11058"/>
                    <a:pt x="28099" y="25345"/>
                    <a:pt x="16669" y="47253"/>
                  </a:cubicBezTo>
                  <a:cubicBezTo>
                    <a:pt x="4286" y="71065"/>
                    <a:pt x="4286" y="95830"/>
                    <a:pt x="16669" y="119643"/>
                  </a:cubicBezTo>
                  <a:cubicBezTo>
                    <a:pt x="17621" y="121548"/>
                    <a:pt x="17621" y="122500"/>
                    <a:pt x="16669" y="124405"/>
                  </a:cubicBezTo>
                  <a:cubicBezTo>
                    <a:pt x="13811" y="134883"/>
                    <a:pt x="10954" y="146313"/>
                    <a:pt x="7144" y="156790"/>
                  </a:cubicBezTo>
                  <a:cubicBezTo>
                    <a:pt x="7144" y="158695"/>
                    <a:pt x="7144" y="158695"/>
                    <a:pt x="10001" y="157743"/>
                  </a:cubicBezTo>
                  <a:cubicBezTo>
                    <a:pt x="21431" y="154885"/>
                    <a:pt x="32861" y="152028"/>
                    <a:pt x="43339" y="149170"/>
                  </a:cubicBezTo>
                  <a:cubicBezTo>
                    <a:pt x="45244" y="148218"/>
                    <a:pt x="46196" y="149170"/>
                    <a:pt x="48101" y="150123"/>
                  </a:cubicBezTo>
                  <a:cubicBezTo>
                    <a:pt x="66199" y="159648"/>
                    <a:pt x="85249" y="161553"/>
                    <a:pt x="105251" y="154885"/>
                  </a:cubicBezTo>
                  <a:cubicBezTo>
                    <a:pt x="136684" y="145360"/>
                    <a:pt x="158591" y="115833"/>
                    <a:pt x="158591" y="85353"/>
                  </a:cubicBezTo>
                  <a:cubicBezTo>
                    <a:pt x="158591" y="67255"/>
                    <a:pt x="154781" y="52968"/>
                    <a:pt x="145256" y="40585"/>
                  </a:cubicBezTo>
                  <a:close/>
                  <a:moveTo>
                    <a:pt x="98584" y="143455"/>
                  </a:moveTo>
                  <a:cubicBezTo>
                    <a:pt x="81439" y="148218"/>
                    <a:pt x="65246" y="145360"/>
                    <a:pt x="50006" y="135835"/>
                  </a:cubicBezTo>
                  <a:cubicBezTo>
                    <a:pt x="48101" y="134883"/>
                    <a:pt x="47149" y="134883"/>
                    <a:pt x="45244" y="134883"/>
                  </a:cubicBezTo>
                  <a:cubicBezTo>
                    <a:pt x="39529" y="136788"/>
                    <a:pt x="33814" y="137740"/>
                    <a:pt x="27146" y="139645"/>
                  </a:cubicBezTo>
                  <a:cubicBezTo>
                    <a:pt x="26194" y="140598"/>
                    <a:pt x="25241" y="140598"/>
                    <a:pt x="26194" y="138693"/>
                  </a:cubicBezTo>
                  <a:cubicBezTo>
                    <a:pt x="28099" y="132978"/>
                    <a:pt x="29051" y="127263"/>
                    <a:pt x="30956" y="121548"/>
                  </a:cubicBezTo>
                  <a:cubicBezTo>
                    <a:pt x="30956" y="120595"/>
                    <a:pt x="30956" y="118690"/>
                    <a:pt x="30004" y="117738"/>
                  </a:cubicBezTo>
                  <a:cubicBezTo>
                    <a:pt x="21431" y="104403"/>
                    <a:pt x="17621" y="89163"/>
                    <a:pt x="20479" y="72970"/>
                  </a:cubicBezTo>
                  <a:cubicBezTo>
                    <a:pt x="23336" y="54873"/>
                    <a:pt x="32861" y="40585"/>
                    <a:pt x="48101" y="31060"/>
                  </a:cubicBezTo>
                  <a:cubicBezTo>
                    <a:pt x="58579" y="24393"/>
                    <a:pt x="70009" y="20583"/>
                    <a:pt x="84296" y="20583"/>
                  </a:cubicBezTo>
                  <a:cubicBezTo>
                    <a:pt x="111919" y="20583"/>
                    <a:pt x="137636" y="41538"/>
                    <a:pt x="144304" y="71065"/>
                  </a:cubicBezTo>
                  <a:cubicBezTo>
                    <a:pt x="150971" y="102498"/>
                    <a:pt x="130969" y="134883"/>
                    <a:pt x="98584" y="143455"/>
                  </a:cubicBezTo>
                  <a:close/>
                </a:path>
              </a:pathLst>
            </a:custGeom>
            <a:solidFill>
              <a:srgbClr val="010101"/>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57" name="Freeform: Shape 83"/>
            <p:cNvSpPr/>
            <p:nvPr/>
          </p:nvSpPr>
          <p:spPr>
            <a:xfrm>
              <a:off x="714240" y="8723520"/>
              <a:ext cx="85680" cy="85680"/>
            </a:xfrm>
            <a:custGeom>
              <a:avLst/>
              <a:gdLst/>
              <a:ahLst/>
              <a:rect l="l" t="t" r="r" b="b"/>
              <a:pathLst>
                <a:path w="85725" h="85725">
                  <a:moveTo>
                    <a:pt x="81687" y="58821"/>
                  </a:moveTo>
                  <a:cubicBezTo>
                    <a:pt x="76924" y="56916"/>
                    <a:pt x="72162" y="54059"/>
                    <a:pt x="66447" y="52154"/>
                  </a:cubicBezTo>
                  <a:cubicBezTo>
                    <a:pt x="64542" y="51201"/>
                    <a:pt x="63589" y="51201"/>
                    <a:pt x="61684" y="53106"/>
                  </a:cubicBezTo>
                  <a:cubicBezTo>
                    <a:pt x="60732" y="55011"/>
                    <a:pt x="59779" y="55964"/>
                    <a:pt x="58827" y="57869"/>
                  </a:cubicBezTo>
                  <a:cubicBezTo>
                    <a:pt x="55017" y="62631"/>
                    <a:pt x="55969" y="62631"/>
                    <a:pt x="50254" y="59774"/>
                  </a:cubicBezTo>
                  <a:cubicBezTo>
                    <a:pt x="40729" y="55011"/>
                    <a:pt x="33109" y="48344"/>
                    <a:pt x="27394" y="38819"/>
                  </a:cubicBezTo>
                  <a:cubicBezTo>
                    <a:pt x="26442" y="37866"/>
                    <a:pt x="26442" y="35961"/>
                    <a:pt x="27394" y="35009"/>
                  </a:cubicBezTo>
                  <a:cubicBezTo>
                    <a:pt x="29299" y="33104"/>
                    <a:pt x="30252" y="32151"/>
                    <a:pt x="31204" y="30246"/>
                  </a:cubicBezTo>
                  <a:cubicBezTo>
                    <a:pt x="33109" y="28341"/>
                    <a:pt x="33109" y="26436"/>
                    <a:pt x="32157" y="24531"/>
                  </a:cubicBezTo>
                  <a:cubicBezTo>
                    <a:pt x="31204" y="20721"/>
                    <a:pt x="29299" y="15959"/>
                    <a:pt x="27394" y="12149"/>
                  </a:cubicBezTo>
                  <a:cubicBezTo>
                    <a:pt x="26442" y="8339"/>
                    <a:pt x="24537" y="6434"/>
                    <a:pt x="20727" y="7386"/>
                  </a:cubicBezTo>
                  <a:cubicBezTo>
                    <a:pt x="18822" y="7386"/>
                    <a:pt x="16917" y="7386"/>
                    <a:pt x="15012" y="8339"/>
                  </a:cubicBezTo>
                  <a:cubicBezTo>
                    <a:pt x="11202" y="12149"/>
                    <a:pt x="8344" y="15959"/>
                    <a:pt x="7392" y="20721"/>
                  </a:cubicBezTo>
                  <a:cubicBezTo>
                    <a:pt x="6439" y="28341"/>
                    <a:pt x="8344" y="35009"/>
                    <a:pt x="11202" y="40724"/>
                  </a:cubicBezTo>
                  <a:cubicBezTo>
                    <a:pt x="17869" y="51201"/>
                    <a:pt x="26442" y="60726"/>
                    <a:pt x="36919" y="68346"/>
                  </a:cubicBezTo>
                  <a:cubicBezTo>
                    <a:pt x="44539" y="74061"/>
                    <a:pt x="53112" y="77871"/>
                    <a:pt x="61684" y="78824"/>
                  </a:cubicBezTo>
                  <a:cubicBezTo>
                    <a:pt x="71209" y="80729"/>
                    <a:pt x="81687" y="75966"/>
                    <a:pt x="83592" y="62631"/>
                  </a:cubicBezTo>
                  <a:cubicBezTo>
                    <a:pt x="83592" y="60726"/>
                    <a:pt x="83592" y="59774"/>
                    <a:pt x="81687" y="58821"/>
                  </a:cubicBezTo>
                  <a:close/>
                </a:path>
              </a:pathLst>
            </a:custGeom>
            <a:solidFill>
              <a:srgbClr val="010101"/>
            </a:solidFill>
            <a:ln w="0">
              <a:noFill/>
            </a:ln>
          </p:spPr>
          <p:style>
            <a:lnRef idx="0"/>
            <a:fillRef idx="0"/>
            <a:effectRef idx="0"/>
            <a:fontRef idx="minor"/>
          </p:style>
          <p:txBody>
            <a:bodyPr tIns="39960" bIns="39960" anchor="ctr">
              <a:noAutofit/>
            </a:bodyPr>
            <a:p>
              <a:endParaRPr b="0" lang="en-US" sz="1800" spc="-1" strike="noStrike">
                <a:solidFill>
                  <a:srgbClr val="000000"/>
                </a:solidFill>
                <a:latin typeface="Calibri"/>
              </a:endParaRPr>
            </a:p>
          </p:txBody>
        </p:sp>
      </p:grpSp>
      <p:sp>
        <p:nvSpPr>
          <p:cNvPr id="258" name="Freeform: Shape 86"/>
          <p:cNvSpPr/>
          <p:nvPr/>
        </p:nvSpPr>
        <p:spPr>
          <a:xfrm>
            <a:off x="681120" y="8997840"/>
            <a:ext cx="152280" cy="152640"/>
          </a:xfrm>
          <a:custGeom>
            <a:avLst/>
            <a:gdLst/>
            <a:ahLst/>
            <a:rect l="l" t="t" r="r" b="b"/>
            <a:pathLst>
              <a:path w="152400" h="152400">
                <a:moveTo>
                  <a:pt x="9049" y="7144"/>
                </a:moveTo>
                <a:cubicBezTo>
                  <a:pt x="21431" y="7144"/>
                  <a:pt x="131921" y="7144"/>
                  <a:pt x="145256" y="7144"/>
                </a:cubicBezTo>
                <a:cubicBezTo>
                  <a:pt x="146209" y="7144"/>
                  <a:pt x="146209" y="8096"/>
                  <a:pt x="146209" y="8096"/>
                </a:cubicBezTo>
                <a:lnTo>
                  <a:pt x="146209" y="8096"/>
                </a:lnTo>
                <a:cubicBezTo>
                  <a:pt x="146209" y="53816"/>
                  <a:pt x="146209" y="98584"/>
                  <a:pt x="146209" y="144304"/>
                </a:cubicBezTo>
                <a:cubicBezTo>
                  <a:pt x="146209" y="146209"/>
                  <a:pt x="146209" y="146209"/>
                  <a:pt x="144304" y="146209"/>
                </a:cubicBezTo>
                <a:cubicBezTo>
                  <a:pt x="130969" y="146209"/>
                  <a:pt x="117634" y="146209"/>
                  <a:pt x="104299" y="146209"/>
                </a:cubicBezTo>
                <a:cubicBezTo>
                  <a:pt x="102394" y="146209"/>
                  <a:pt x="102394" y="146209"/>
                  <a:pt x="102394" y="144304"/>
                </a:cubicBezTo>
                <a:cubicBezTo>
                  <a:pt x="102394" y="128111"/>
                  <a:pt x="102394" y="110966"/>
                  <a:pt x="102394" y="94774"/>
                </a:cubicBezTo>
                <a:cubicBezTo>
                  <a:pt x="102394" y="92869"/>
                  <a:pt x="102394" y="91916"/>
                  <a:pt x="105251" y="91916"/>
                </a:cubicBezTo>
                <a:cubicBezTo>
                  <a:pt x="109061" y="91916"/>
                  <a:pt x="113824" y="91916"/>
                  <a:pt x="117634" y="91916"/>
                </a:cubicBezTo>
                <a:cubicBezTo>
                  <a:pt x="120491" y="91916"/>
                  <a:pt x="121444" y="91916"/>
                  <a:pt x="121444" y="88106"/>
                </a:cubicBezTo>
                <a:cubicBezTo>
                  <a:pt x="122396" y="83344"/>
                  <a:pt x="122396" y="78581"/>
                  <a:pt x="123349" y="74771"/>
                </a:cubicBezTo>
                <a:cubicBezTo>
                  <a:pt x="123349" y="71914"/>
                  <a:pt x="123349" y="71914"/>
                  <a:pt x="120491" y="71914"/>
                </a:cubicBezTo>
                <a:cubicBezTo>
                  <a:pt x="115729" y="71914"/>
                  <a:pt x="110966" y="71914"/>
                  <a:pt x="107156" y="71914"/>
                </a:cubicBezTo>
                <a:cubicBezTo>
                  <a:pt x="105251" y="71914"/>
                  <a:pt x="103346" y="70009"/>
                  <a:pt x="103346" y="68104"/>
                </a:cubicBezTo>
                <a:cubicBezTo>
                  <a:pt x="103346" y="64294"/>
                  <a:pt x="103346" y="60484"/>
                  <a:pt x="103346" y="56674"/>
                </a:cubicBezTo>
                <a:cubicBezTo>
                  <a:pt x="103346" y="51911"/>
                  <a:pt x="106204" y="49054"/>
                  <a:pt x="110014" y="48101"/>
                </a:cubicBezTo>
                <a:cubicBezTo>
                  <a:pt x="110966" y="48101"/>
                  <a:pt x="111919" y="48101"/>
                  <a:pt x="111919" y="48101"/>
                </a:cubicBezTo>
                <a:cubicBezTo>
                  <a:pt x="114776" y="48101"/>
                  <a:pt x="118586" y="48101"/>
                  <a:pt x="121444" y="48101"/>
                </a:cubicBezTo>
                <a:cubicBezTo>
                  <a:pt x="123349" y="48101"/>
                  <a:pt x="124301" y="47149"/>
                  <a:pt x="124301" y="45244"/>
                </a:cubicBezTo>
                <a:cubicBezTo>
                  <a:pt x="124301" y="41434"/>
                  <a:pt x="124301" y="36671"/>
                  <a:pt x="124301" y="32861"/>
                </a:cubicBezTo>
                <a:cubicBezTo>
                  <a:pt x="124301" y="30956"/>
                  <a:pt x="123349" y="30004"/>
                  <a:pt x="122396" y="30004"/>
                </a:cubicBezTo>
                <a:cubicBezTo>
                  <a:pt x="115729" y="30004"/>
                  <a:pt x="109061" y="29051"/>
                  <a:pt x="102394" y="30956"/>
                </a:cubicBezTo>
                <a:cubicBezTo>
                  <a:pt x="90964" y="32861"/>
                  <a:pt x="83344" y="42386"/>
                  <a:pt x="82391" y="53816"/>
                </a:cubicBezTo>
                <a:cubicBezTo>
                  <a:pt x="82391" y="59531"/>
                  <a:pt x="82391" y="65246"/>
                  <a:pt x="82391" y="70961"/>
                </a:cubicBezTo>
                <a:cubicBezTo>
                  <a:pt x="82391" y="72866"/>
                  <a:pt x="82391" y="73819"/>
                  <a:pt x="79534" y="73819"/>
                </a:cubicBezTo>
                <a:cubicBezTo>
                  <a:pt x="75724" y="73819"/>
                  <a:pt x="71914" y="73819"/>
                  <a:pt x="68104" y="73819"/>
                </a:cubicBezTo>
                <a:cubicBezTo>
                  <a:pt x="67151" y="73819"/>
                  <a:pt x="67151" y="73819"/>
                  <a:pt x="66199" y="73819"/>
                </a:cubicBezTo>
                <a:cubicBezTo>
                  <a:pt x="64294" y="73819"/>
                  <a:pt x="64294" y="74771"/>
                  <a:pt x="64294" y="76676"/>
                </a:cubicBezTo>
                <a:cubicBezTo>
                  <a:pt x="64294" y="78581"/>
                  <a:pt x="64294" y="80486"/>
                  <a:pt x="64294" y="82391"/>
                </a:cubicBezTo>
                <a:cubicBezTo>
                  <a:pt x="64294" y="85249"/>
                  <a:pt x="64294" y="88106"/>
                  <a:pt x="64294" y="90964"/>
                </a:cubicBezTo>
                <a:cubicBezTo>
                  <a:pt x="64294" y="93821"/>
                  <a:pt x="65246" y="93821"/>
                  <a:pt x="67151" y="93821"/>
                </a:cubicBezTo>
                <a:cubicBezTo>
                  <a:pt x="70961" y="93821"/>
                  <a:pt x="75724" y="93821"/>
                  <a:pt x="79534" y="93821"/>
                </a:cubicBezTo>
                <a:cubicBezTo>
                  <a:pt x="81439" y="93821"/>
                  <a:pt x="81439" y="93821"/>
                  <a:pt x="81439" y="95726"/>
                </a:cubicBezTo>
                <a:cubicBezTo>
                  <a:pt x="81439" y="112871"/>
                  <a:pt x="81439" y="129064"/>
                  <a:pt x="81439" y="146209"/>
                </a:cubicBezTo>
                <a:cubicBezTo>
                  <a:pt x="81439" y="148114"/>
                  <a:pt x="81439" y="148114"/>
                  <a:pt x="79534" y="148114"/>
                </a:cubicBezTo>
                <a:cubicBezTo>
                  <a:pt x="55721" y="148114"/>
                  <a:pt x="32861" y="148114"/>
                  <a:pt x="9049" y="148114"/>
                </a:cubicBezTo>
                <a:cubicBezTo>
                  <a:pt x="9049" y="148114"/>
                  <a:pt x="9049" y="148114"/>
                  <a:pt x="9049" y="148114"/>
                </a:cubicBezTo>
                <a:cubicBezTo>
                  <a:pt x="7144" y="148114"/>
                  <a:pt x="7144" y="148114"/>
                  <a:pt x="7144" y="146209"/>
                </a:cubicBezTo>
                <a:cubicBezTo>
                  <a:pt x="7144" y="101441"/>
                  <a:pt x="7144" y="55721"/>
                  <a:pt x="7144" y="10954"/>
                </a:cubicBezTo>
                <a:cubicBezTo>
                  <a:pt x="7144" y="10954"/>
                  <a:pt x="7144" y="10954"/>
                  <a:pt x="7144" y="10954"/>
                </a:cubicBezTo>
                <a:cubicBezTo>
                  <a:pt x="8096" y="7144"/>
                  <a:pt x="8096" y="7144"/>
                  <a:pt x="9049" y="7144"/>
                </a:cubicBezTo>
                <a:close/>
              </a:path>
            </a:pathLst>
          </a:custGeom>
          <a:solidFill>
            <a:srgbClr val="000000"/>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59" name="Freeform: Shape 87"/>
          <p:cNvSpPr/>
          <p:nvPr/>
        </p:nvSpPr>
        <p:spPr>
          <a:xfrm>
            <a:off x="1849320" y="8685360"/>
            <a:ext cx="171720" cy="133200"/>
          </a:xfrm>
          <a:custGeom>
            <a:avLst/>
            <a:gdLst/>
            <a:ahLst/>
            <a:rect l="l" t="t" r="r" b="b"/>
            <a:pathLst>
              <a:path w="171450" h="133350">
                <a:moveTo>
                  <a:pt x="161449" y="8783"/>
                </a:moveTo>
                <a:cubicBezTo>
                  <a:pt x="158591" y="16403"/>
                  <a:pt x="154781" y="22118"/>
                  <a:pt x="148114" y="25928"/>
                </a:cubicBezTo>
                <a:cubicBezTo>
                  <a:pt x="153829" y="24976"/>
                  <a:pt x="159544" y="24023"/>
                  <a:pt x="165259" y="21166"/>
                </a:cubicBezTo>
                <a:cubicBezTo>
                  <a:pt x="164306" y="22118"/>
                  <a:pt x="164306" y="23071"/>
                  <a:pt x="163354" y="23071"/>
                </a:cubicBezTo>
                <a:cubicBezTo>
                  <a:pt x="162401" y="24023"/>
                  <a:pt x="162401" y="24976"/>
                  <a:pt x="161449" y="24976"/>
                </a:cubicBezTo>
                <a:cubicBezTo>
                  <a:pt x="157639" y="28786"/>
                  <a:pt x="153829" y="32596"/>
                  <a:pt x="150019" y="35453"/>
                </a:cubicBezTo>
                <a:cubicBezTo>
                  <a:pt x="149066" y="36406"/>
                  <a:pt x="149066" y="36406"/>
                  <a:pt x="149066" y="38311"/>
                </a:cubicBezTo>
                <a:cubicBezTo>
                  <a:pt x="149066" y="65933"/>
                  <a:pt x="139541" y="89746"/>
                  <a:pt x="119539" y="109748"/>
                </a:cubicBezTo>
                <a:cubicBezTo>
                  <a:pt x="107156" y="122131"/>
                  <a:pt x="91916" y="128798"/>
                  <a:pt x="74771" y="132608"/>
                </a:cubicBezTo>
                <a:cubicBezTo>
                  <a:pt x="57626" y="135466"/>
                  <a:pt x="41434" y="134513"/>
                  <a:pt x="25241" y="128798"/>
                </a:cubicBezTo>
                <a:cubicBezTo>
                  <a:pt x="19526" y="126893"/>
                  <a:pt x="13811" y="124036"/>
                  <a:pt x="8096" y="120226"/>
                </a:cubicBezTo>
                <a:cubicBezTo>
                  <a:pt x="8096" y="120226"/>
                  <a:pt x="8096" y="120226"/>
                  <a:pt x="7144" y="119273"/>
                </a:cubicBezTo>
                <a:cubicBezTo>
                  <a:pt x="15716" y="120226"/>
                  <a:pt x="24289" y="119273"/>
                  <a:pt x="31909" y="117368"/>
                </a:cubicBezTo>
                <a:cubicBezTo>
                  <a:pt x="39529" y="115463"/>
                  <a:pt x="47149" y="111653"/>
                  <a:pt x="53816" y="105938"/>
                </a:cubicBezTo>
                <a:cubicBezTo>
                  <a:pt x="38576" y="104986"/>
                  <a:pt x="29051" y="97366"/>
                  <a:pt x="24289" y="84031"/>
                </a:cubicBezTo>
                <a:cubicBezTo>
                  <a:pt x="27146" y="84031"/>
                  <a:pt x="29051" y="84031"/>
                  <a:pt x="30956" y="84031"/>
                </a:cubicBezTo>
                <a:cubicBezTo>
                  <a:pt x="32861" y="84031"/>
                  <a:pt x="35719" y="83078"/>
                  <a:pt x="37624" y="83078"/>
                </a:cubicBezTo>
                <a:cubicBezTo>
                  <a:pt x="30004" y="81173"/>
                  <a:pt x="24289" y="77363"/>
                  <a:pt x="19526" y="71648"/>
                </a:cubicBezTo>
                <a:cubicBezTo>
                  <a:pt x="14764" y="65933"/>
                  <a:pt x="11906" y="59266"/>
                  <a:pt x="12859" y="50693"/>
                </a:cubicBezTo>
                <a:cubicBezTo>
                  <a:pt x="18574" y="53551"/>
                  <a:pt x="23336" y="54503"/>
                  <a:pt x="28099" y="55456"/>
                </a:cubicBezTo>
                <a:cubicBezTo>
                  <a:pt x="13811" y="43073"/>
                  <a:pt x="10954" y="28786"/>
                  <a:pt x="18574" y="12593"/>
                </a:cubicBezTo>
                <a:cubicBezTo>
                  <a:pt x="36671" y="33548"/>
                  <a:pt x="58579" y="44978"/>
                  <a:pt x="85249" y="46883"/>
                </a:cubicBezTo>
                <a:cubicBezTo>
                  <a:pt x="85249" y="44978"/>
                  <a:pt x="84296" y="43073"/>
                  <a:pt x="84296" y="41168"/>
                </a:cubicBezTo>
                <a:cubicBezTo>
                  <a:pt x="83344" y="24976"/>
                  <a:pt x="93821" y="10688"/>
                  <a:pt x="110014" y="7831"/>
                </a:cubicBezTo>
                <a:cubicBezTo>
                  <a:pt x="120491" y="5926"/>
                  <a:pt x="130969" y="7831"/>
                  <a:pt x="138589" y="15451"/>
                </a:cubicBezTo>
                <a:cubicBezTo>
                  <a:pt x="139541" y="16403"/>
                  <a:pt x="140494" y="16403"/>
                  <a:pt x="142399" y="16403"/>
                </a:cubicBezTo>
                <a:cubicBezTo>
                  <a:pt x="148114" y="14498"/>
                  <a:pt x="153829" y="12593"/>
                  <a:pt x="159544" y="9736"/>
                </a:cubicBezTo>
                <a:cubicBezTo>
                  <a:pt x="160496" y="8783"/>
                  <a:pt x="160496" y="8783"/>
                  <a:pt x="161449" y="8783"/>
                </a:cubicBezTo>
                <a:close/>
              </a:path>
            </a:pathLst>
          </a:custGeom>
          <a:solidFill>
            <a:srgbClr val="000000"/>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260" name="Freeform: Shape 88"/>
          <p:cNvSpPr/>
          <p:nvPr/>
        </p:nvSpPr>
        <p:spPr>
          <a:xfrm>
            <a:off x="1859040" y="8980560"/>
            <a:ext cx="162000" cy="162000"/>
          </a:xfrm>
          <a:custGeom>
            <a:avLst/>
            <a:gdLst/>
            <a:ahLst/>
            <a:rect l="l" t="t" r="r" b="b"/>
            <a:pathLst>
              <a:path w="161925" h="161925">
                <a:moveTo>
                  <a:pt x="141446" y="7144"/>
                </a:moveTo>
                <a:lnTo>
                  <a:pt x="22384" y="7144"/>
                </a:lnTo>
                <a:cubicBezTo>
                  <a:pt x="13811" y="7144"/>
                  <a:pt x="7144" y="13811"/>
                  <a:pt x="7144" y="22384"/>
                </a:cubicBezTo>
                <a:lnTo>
                  <a:pt x="7144" y="141446"/>
                </a:lnTo>
                <a:cubicBezTo>
                  <a:pt x="7144" y="150019"/>
                  <a:pt x="13811" y="156686"/>
                  <a:pt x="22384" y="156686"/>
                </a:cubicBezTo>
                <a:lnTo>
                  <a:pt x="141446" y="156686"/>
                </a:lnTo>
                <a:cubicBezTo>
                  <a:pt x="150019" y="156686"/>
                  <a:pt x="156686" y="150019"/>
                  <a:pt x="156686" y="141446"/>
                </a:cubicBezTo>
                <a:lnTo>
                  <a:pt x="156686" y="22384"/>
                </a:lnTo>
                <a:cubicBezTo>
                  <a:pt x="156686" y="13811"/>
                  <a:pt x="150019" y="7144"/>
                  <a:pt x="141446" y="7144"/>
                </a:cubicBezTo>
                <a:close/>
                <a:moveTo>
                  <a:pt x="51911" y="133826"/>
                </a:moveTo>
                <a:lnTo>
                  <a:pt x="29051" y="133826"/>
                </a:lnTo>
                <a:lnTo>
                  <a:pt x="29051" y="66199"/>
                </a:lnTo>
                <a:lnTo>
                  <a:pt x="51911" y="66199"/>
                </a:lnTo>
                <a:lnTo>
                  <a:pt x="51911" y="133826"/>
                </a:lnTo>
                <a:close/>
                <a:moveTo>
                  <a:pt x="40481" y="54769"/>
                </a:moveTo>
                <a:cubicBezTo>
                  <a:pt x="32861" y="54769"/>
                  <a:pt x="27146" y="49054"/>
                  <a:pt x="27146" y="41434"/>
                </a:cubicBezTo>
                <a:cubicBezTo>
                  <a:pt x="27146" y="33814"/>
                  <a:pt x="32861" y="28099"/>
                  <a:pt x="40481" y="28099"/>
                </a:cubicBezTo>
                <a:cubicBezTo>
                  <a:pt x="48101" y="28099"/>
                  <a:pt x="53816" y="33814"/>
                  <a:pt x="53816" y="41434"/>
                </a:cubicBezTo>
                <a:cubicBezTo>
                  <a:pt x="54769" y="48101"/>
                  <a:pt x="48101" y="54769"/>
                  <a:pt x="40481" y="54769"/>
                </a:cubicBezTo>
                <a:close/>
                <a:moveTo>
                  <a:pt x="133826" y="133826"/>
                </a:moveTo>
                <a:lnTo>
                  <a:pt x="110966" y="133826"/>
                </a:lnTo>
                <a:lnTo>
                  <a:pt x="110966" y="93821"/>
                </a:lnTo>
                <a:cubicBezTo>
                  <a:pt x="110966" y="88106"/>
                  <a:pt x="106204" y="82391"/>
                  <a:pt x="99536" y="82391"/>
                </a:cubicBezTo>
                <a:cubicBezTo>
                  <a:pt x="92869" y="82391"/>
                  <a:pt x="88106" y="87154"/>
                  <a:pt x="88106" y="93821"/>
                </a:cubicBezTo>
                <a:lnTo>
                  <a:pt x="88106" y="133826"/>
                </a:lnTo>
                <a:lnTo>
                  <a:pt x="65246" y="133826"/>
                </a:lnTo>
                <a:lnTo>
                  <a:pt x="65246" y="66199"/>
                </a:lnTo>
                <a:lnTo>
                  <a:pt x="88106" y="66199"/>
                </a:lnTo>
                <a:lnTo>
                  <a:pt x="88106" y="74771"/>
                </a:lnTo>
                <a:cubicBezTo>
                  <a:pt x="91916" y="69056"/>
                  <a:pt x="100489" y="64294"/>
                  <a:pt x="107156" y="64294"/>
                </a:cubicBezTo>
                <a:cubicBezTo>
                  <a:pt x="121444" y="64294"/>
                  <a:pt x="132874" y="76676"/>
                  <a:pt x="132874" y="90011"/>
                </a:cubicBezTo>
                <a:lnTo>
                  <a:pt x="132874" y="133826"/>
                </a:lnTo>
                <a:lnTo>
                  <a:pt x="133826" y="133826"/>
                </a:lnTo>
                <a:close/>
              </a:path>
            </a:pathLst>
          </a:custGeom>
          <a:solidFill>
            <a:srgbClr val="010101"/>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07T09:20:47Z</dcterms:created>
  <dc:creator>Nugraha Youngga</dc:creator>
  <dc:description/>
  <dc:language>en-US</dc:language>
  <cp:lastModifiedBy>ROGDEKSTOP</cp:lastModifiedBy>
  <dcterms:modified xsi:type="dcterms:W3CDTF">2019-11-08T07:46:05Z</dcterms:modified>
  <cp:revision>22</cp:revision>
  <dc:subject/>
  <dc:title>PowerPoint Presentation</dc:title>
</cp:coreProperties>
</file>